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4D2-39AD-4AC3-86E3-19E9CFA3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6D1C-67CF-4BBF-A841-F8A3ACAC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F227-D6B5-4C45-B156-069D030C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6ED-ECA5-4F70-A5E0-D6230016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CFB8-8FCE-40F2-9C96-B8357246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B9D-C859-4CE5-B448-6D4CCA9F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72FD-E93E-4A34-B949-3973C3BF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29ED-2B8C-4FD6-92EF-C9CC8F07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0271-8E89-4E6D-9989-807A24C3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BB9B-6393-4F62-B227-FF44E2A2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772C-A55F-4FF6-8B90-739192EB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AD58-0175-4FA3-9A13-A23E4418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FBB6-9F7B-4B80-93B7-B8E599BD6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GIZ</a:t>
            </a:r>
            <a:br>
              <a:rPr sz="4400"/>
            </a:br>
            <a:r>
              <a:rPr b="1" lang="sr-Latn-CS" sz="4400" spc="-1" strike="noStrike">
                <a:solidFill>
                  <a:srgbClr val="a50021"/>
                </a:solidFill>
                <a:latin typeface="Arial"/>
              </a:rPr>
              <a:t>Profesionalna orijentacija na prelasku u srednju ško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deli implementacije programa profesionalne orijen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odeli implementa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Krukulum: 7. i 8. razred – nastava profesionalne orijent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nterdisciplinarno/kroskurikularno – integrisana u nastavne predm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O u okviru projek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Kurik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mostalan predmet se više c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 u toku godine sa jednim časom nedeljno omogućava primenu petofaznog mode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napredjuje se I razvija lična, predmetna I metodička kompeten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ci doživljavaju aktivnu nast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tvoreni vidovi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bezbedjena primena vežb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ljučne kompetencije se prenose na efikasan nač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nažnije otvaranje škole prema spoljnjem svetu – 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ogućnost organizacije realnih susr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ransparentnost o zbivanjima u nastavi za roditelje/staratel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anje posla oko koordina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oditelji/staratelji prepoznaju dobit za decu kroz pripremu za buduće zanimanje I ško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o praćen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a50021"/>
                </a:solidFill>
                <a:latin typeface="Arial"/>
              </a:rPr>
              <a:t>Interdisciplinarno/kroskurikularno – integrisana u nastavne predm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 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8.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razredu integriš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sa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30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časova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 u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met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a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interdisciplina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dlik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e prepoznavanje značaja PO za nastavnike, roditelje/staratelje I eksterne školske partn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iše posla oko koordin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orijentisanost prema nastavnom pl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težana realizacija petofaznog modela u pra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kontinuiteta za razvoj kompetencije orijent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voljno vežbi sa primenom različitih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eže otvaranje škole iz organizacionih razlo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mogućnost za sprovodje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transparentnosti za roditelje/starate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datni časovi za ostvariva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a50021"/>
                </a:solidFill>
                <a:latin typeface="Arial"/>
              </a:rPr>
              <a:t>PO u okviru projek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nje se opaža značaj PO kao doprinos životnoj orijent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no je još termina od jednog ( školska godina ) za projek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petofazng modela može duže da t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petencija orijentacije može da se razvija I unapredju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otvorenih vidova učenja postoji ali nedostaje kontinu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tvaranje škole prema spolja zavisi od strukture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ći poslovi koordin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datni časovi za realne susrete u 7. I 8. razr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no ostvarljivo u praksi - potvrdjuje iskustvo iz pilot projek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mpetenci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k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1143000"/>
          <a:ext cx="861048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610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ala </a:t>
            </a: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pomoć prijatelja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4382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 pred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odeljenjske zajednice za učenike/ce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kroz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slobodnih vannastavnih aktivnosti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Vaš predlog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j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1-10-04T13:20:4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