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236F-8E6E-41D4-B484-A87D8E18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6451-6638-42D7-B6EB-0AC2A684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15D3-CAFC-4890-A4F9-F09DE600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F0C-E662-4893-9BFC-FADA5340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E6B-69C5-4368-9A34-F9379C34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0C47-1C7C-4CB0-9F9F-10A6CC52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BEB-5580-4748-A9F1-71E158FE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A1C8-28BA-46AC-9105-2B76E5A6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D4B-E2E3-4A51-A440-908EAADD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475-7DE9-4FB6-97DC-124209DE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26A-2A13-414C-A82E-33C5CB6E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BCC-003A-457F-988B-8C80DBFF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D9D7-C8C4-4C34-9E35-4F369F346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: С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моспозна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стављање програма и портфолија за ученике/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 и договарање о начину 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интересо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ештина и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т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ред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моспознаја – ауто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очима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кав/каква сам у ти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ј тип уч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 за 10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 родитеље/старетеље и децу: Моја очеки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,3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формисање о занимањима, каријери и путевима образ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ка савременог света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4. Прикупљање и начин обраде информација  о школама и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5. Повезивање области рада са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6. Путеви образовања и 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7. Припрема за интерв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8. Спровођење интервј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9. Припрема сусрета са експертима у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. Експерти у нашој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5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лни сусрети са светом рада и доношење одлуке о школовању и заним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1. Осверт на резултате информис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2. Посета средњој 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3. Посета предузећу/устан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4. Евалуација програма ПО за 7. раз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+ 15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часова реалних сус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3:00:5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