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BE71-9321-4E6E-A8BA-254B64BF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76F-199B-4CFD-A671-04FB0682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9529-9703-4B88-A709-B3747CF0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5F3B-6559-42AB-979E-F53970C9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1951-242B-442B-9F14-7250BDA3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E72-FB46-4A47-B7F6-D18BF2FE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CC91-43D5-44E5-8B09-56A31E51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9054-6C28-4A46-9F00-A8084FCD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F2C7-238E-4E55-BA99-7FCB5925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4227-FF75-40B0-BCE4-95545CA7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C0AF-2E16-4287-B4D3-9ED28479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F0DF-666B-461D-8A18-0219AD3A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7F28-39F2-4893-8DF3-AF276D4D1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ицање знања, вештина и компетенција п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сионалаца за рад са млади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у петофазног процесног модела професионалне оријентације и стварање системске мреже подршке у области професионалне оријен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пшти циљ програма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114300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0"/>
            <a:ext cx="85341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напређивање знања, вештина и компетенција професионалаца 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мену модела П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з модуле: самоспознаја, информисање о занимањима, каријери и путевима образовања, реални сусрети са светом рада и доношење одлуке о школи и занимањ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ршку у остварив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ал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ср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са партнерима у области ПО: средње школе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калне канцеларије за младе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ционална служба за запошљавање; привре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 с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одитељ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а на пруж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рш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ци у  процес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ог информисања и саветовања  до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ношењ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одлуке о избору школе и занимањ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цесно оријентисано индивидуално праћење млади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области професионалне оријентациј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режавање професионалац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институциј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 ширење идеје о процесном петофазном модел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е оријентације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990720"/>
            <a:ext cx="8839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пецифични циљеви базичне обу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MP</cp:lastModifiedBy>
  <dcterms:modified xsi:type="dcterms:W3CDTF">2012-02-04T13:21:1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