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F9BF-C91F-46DB-9C16-6B52DED4C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996F-A3A1-48CA-9180-E107066B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3D48-9500-402B-8067-045E3EE79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6ADD-283D-4AB3-8DF0-1C0A9D973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551E-8264-45F3-B079-C6E8362A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EC88-8F2D-4B7B-B8E4-EDBDDE7A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0480-192A-4AF4-AB54-E68A4352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E48B-C5FB-4E90-8449-2C744AFA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85D5-569E-4BC2-9B90-223EBEB3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66BB-7838-4301-994B-BDE2CDF5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C649-CBE9-4CB9-A051-FC8C5A21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ADF2-0D0A-422A-8B1F-B7A1CDA0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FA1A-6C35-4DDE-8AA6-BBCB3D2B9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266760"/>
            <a:ext cx="8763120" cy="65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1219320"/>
            <a:ext cx="624852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entor u GIZ </a:t>
            </a:r>
            <a:r>
              <a:rPr b="1" lang="sr-Latn-CS" sz="4400" spc="-1" strike="noStrike">
                <a:solidFill>
                  <a:srgbClr val="cc0000"/>
                </a:solidFill>
                <a:latin typeface="Arial"/>
              </a:rPr>
              <a:t>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lang="sr-Latn-CS" sz="3600" spc="-1" strike="noStrike">
                <a:solidFill>
                  <a:srgbClr val="808080"/>
                </a:solidFill>
                <a:latin typeface="Arial"/>
              </a:rPr>
              <a:t>Profesional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08080"/>
                </a:solidFill>
                <a:latin typeface="Arial"/>
              </a:rPr>
              <a:t>orijentacija na prelasku u srednju školu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-Drugi krug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obu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group mentoring"/>
          <p:cNvPicPr/>
          <p:nvPr/>
        </p:nvPicPr>
        <p:blipFill>
          <a:blip r:embed="rId2"/>
          <a:stretch/>
        </p:blipFill>
        <p:spPr>
          <a:xfrm>
            <a:off x="5076720" y="3860640"/>
            <a:ext cx="345600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16000" y="90792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Trener A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/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MENTOR </a:t>
            </a: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BOŠ 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989000"/>
            <a:ext cx="878544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DAJE PODRŠKU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TIMU u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MPLEMENTACIJI PROGRA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AKCIJE I MANIFESTACIJE PO ŠKOLA KROZ PARTNERST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UMREŽAVANJE KROZ PROMOTIVNE AKTIVNOSTI I POVEZIVANJE SA PARTNERI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MENTORIŠE BOŠ 2 KROZ MENTORSKE SUSRETE I DRUGE VIDOVE RAZM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153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 BOŠ 2  razvija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partnerstv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9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BOŠ 2  sa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9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BOŠ 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i MOŠ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i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group mentoring"/>
          <p:cNvPicPr/>
          <p:nvPr/>
        </p:nvPicPr>
        <p:blipFill>
          <a:blip r:embed="rId2"/>
          <a:stretch/>
        </p:blipFill>
        <p:spPr>
          <a:xfrm>
            <a:off x="250920" y="1557360"/>
            <a:ext cx="1523880" cy="1197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group mentoring"/>
          <p:cNvPicPr/>
          <p:nvPr/>
        </p:nvPicPr>
        <p:blipFill>
          <a:blip r:embed="rId3"/>
          <a:stretch/>
        </p:blipFill>
        <p:spPr>
          <a:xfrm>
            <a:off x="179280" y="4508640"/>
            <a:ext cx="1371600" cy="1162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group mentoring"/>
          <p:cNvPicPr/>
          <p:nvPr/>
        </p:nvPicPr>
        <p:blipFill>
          <a:blip r:embed="rId4"/>
          <a:stretch/>
        </p:blipFill>
        <p:spPr>
          <a:xfrm>
            <a:off x="826920" y="2565360"/>
            <a:ext cx="1524240" cy="1104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group mentoring"/>
          <p:cNvPicPr/>
          <p:nvPr/>
        </p:nvPicPr>
        <p:blipFill>
          <a:blip r:embed="rId5"/>
          <a:stretch/>
        </p:blipFill>
        <p:spPr>
          <a:xfrm>
            <a:off x="7020000" y="1628640"/>
            <a:ext cx="1523880" cy="1197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group mentoring"/>
          <p:cNvPicPr/>
          <p:nvPr/>
        </p:nvPicPr>
        <p:blipFill>
          <a:blip r:embed="rId6"/>
          <a:stretch/>
        </p:blipFill>
        <p:spPr>
          <a:xfrm>
            <a:off x="7308720" y="4365720"/>
            <a:ext cx="1524240" cy="1317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group mentoring"/>
          <p:cNvPicPr/>
          <p:nvPr/>
        </p:nvPicPr>
        <p:blipFill>
          <a:blip r:embed="rId7"/>
          <a:stretch/>
        </p:blipFill>
        <p:spPr>
          <a:xfrm>
            <a:off x="7164360" y="2492280"/>
            <a:ext cx="1523880" cy="1257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340000" y="2133720"/>
            <a:ext cx="4968720" cy="838080"/>
          </a:xfrm>
          <a:prstGeom prst="leftRightArrow">
            <a:avLst>
              <a:gd name="adj1" fmla="val 50000"/>
              <a:gd name="adj2" fmla="val 1180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9759200">
            <a:off x="3058920" y="2060280"/>
            <a:ext cx="3560760" cy="838080"/>
          </a:xfrm>
          <a:prstGeom prst="leftRightArrow">
            <a:avLst>
              <a:gd name="adj1" fmla="val 50000"/>
              <a:gd name="adj2" fmla="val 845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760400">
            <a:off x="2987280" y="1989000"/>
            <a:ext cx="3527640" cy="838440"/>
          </a:xfrm>
          <a:prstGeom prst="leftRightArrow">
            <a:avLst>
              <a:gd name="adj1" fmla="val 50000"/>
              <a:gd name="adj2" fmla="val 837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group mentoring"/>
          <p:cNvPicPr/>
          <p:nvPr/>
        </p:nvPicPr>
        <p:blipFill>
          <a:blip r:embed="rId8"/>
          <a:stretch/>
        </p:blipFill>
        <p:spPr>
          <a:xfrm>
            <a:off x="4284720" y="2708280"/>
            <a:ext cx="1079280" cy="1297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67640" y="414972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OŠ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i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1116000" y="3716280"/>
            <a:ext cx="934920" cy="863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6732720" y="3573360"/>
            <a:ext cx="1031760" cy="792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9280" y="342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B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12000" y="3789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BOŠ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96360" y="12891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Koordina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1280" y="907920"/>
            <a:ext cx="770580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 2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U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IMOVI BOŠ 2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entor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održava implementaciju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omocija, radionice, vršnjački tim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ender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umrežavanje, roditelji, partnerstvo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…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2924280"/>
            <a:ext cx="871380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U    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KOORDINATORI 9 B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 i     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KOORDINATORI 9 B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ealni susret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dobra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aks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irl’s day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akcije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VT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gućnost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BOŠ u MOŠ…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58920" y="465300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ZAJEDNIČKA AKTIVNOST BOŠ/MOŠ TIMO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I VRŠNJAČKIH TIMOVA PO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na lokalu /plan partners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4000" y="90792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Trener B/ MENTOR  MOŠ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1484280"/>
            <a:ext cx="87138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DAJE PODRŠKU IMPLEMENTACIJI PROGRA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AKCIJE I MANIFESTACIJE MOŠ  KROZ PARTNERSTVO SA BO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UPUĆUJE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 OSNAŽUJE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TIM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ZA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ENTORSKE KOMPETENC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UMREŽAVANJE KROZ PROMOTIVNE AKTIVNOSTI I POVEZIVANJE SA PARTNERI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MENTORIŠE MOŠ 2 KROZ MENTORSKE SUSRETE I DRUGE VIDOVE RAZMENE, ZAJEDNO SA MOŠ1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MENTOR 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mentoriše</a:t>
            </a: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 MOŠ 2</a:t>
            </a:r>
            <a:br>
              <a:rPr sz="4000"/>
            </a:b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zajedno sa</a:t>
            </a: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 MOŠ 1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group mentoring"/>
          <p:cNvPicPr/>
          <p:nvPr/>
        </p:nvPicPr>
        <p:blipFill>
          <a:blip r:embed="rId2"/>
          <a:stretch/>
        </p:blipFill>
        <p:spPr>
          <a:xfrm>
            <a:off x="179280" y="1916280"/>
            <a:ext cx="2808360" cy="1990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group mentoring"/>
          <p:cNvPicPr/>
          <p:nvPr/>
        </p:nvPicPr>
        <p:blipFill>
          <a:blip r:embed="rId3"/>
          <a:stretch/>
        </p:blipFill>
        <p:spPr>
          <a:xfrm>
            <a:off x="6156360" y="2205000"/>
            <a:ext cx="2592360" cy="2174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50920" y="3933720"/>
            <a:ext cx="87138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tim 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ARADJUJE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sa mentorom M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TIM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ima plan mentorstv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s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entor  MOŠ 2 podstiče povezivanje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v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šnjačkih  timova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za PO</a:t>
            </a:r>
            <a:r>
              <a:rPr b="1" lang="sr-Latn-CS" sz="18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 građenje partnerskih  odnosa sa BO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entor  MOŠ 2 podstiče umrežavanje sa PO partne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32000" y="2708280"/>
            <a:ext cx="2667240" cy="838080"/>
          </a:xfrm>
          <a:prstGeom prst="leftRightArrow">
            <a:avLst>
              <a:gd name="adj1" fmla="val 50000"/>
              <a:gd name="adj2" fmla="val 633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116000" y="1413000"/>
            <a:ext cx="792000" cy="649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7020000" y="1700280"/>
            <a:ext cx="863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11280" y="907920"/>
            <a:ext cx="770580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 2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E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IM MOŠ 2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entor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održava implementaciju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omocija, radionice, vršnjački tim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ender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umrežavanje, roditelji, partnerstvo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sa BOŠ 2, specijalizacija …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2924280"/>
            <a:ext cx="871380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U   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IMOV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i  M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ealni susret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dobra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aks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irl’s day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akcije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VT…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465300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OŠ 1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iše, podržava i prenosi iskustvo M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da postanu faktor održivosti I razvoja PO na loka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VT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osposobljen za vršnjačku edukaci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rcRect l="8094" t="0" r="11099" b="0"/>
          <a:stretch/>
        </p:blipFill>
        <p:spPr>
          <a:xfrm>
            <a:off x="0" y="836640"/>
            <a:ext cx="5040360" cy="4678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rcRect l="6260" t="8310" r="0" b="14963"/>
          <a:stretch/>
        </p:blipFill>
        <p:spPr>
          <a:xfrm>
            <a:off x="4824360" y="476280"/>
            <a:ext cx="4319640" cy="26510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427640" y="4365720"/>
            <a:ext cx="388944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PO UMREŽAVANJ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00:52:49Z</dcterms:created>
  <dc:creator>vali</dc:creator>
  <dc:description/>
  <dc:language>en-US</dc:language>
  <cp:lastModifiedBy>WINDOWS XP</cp:lastModifiedBy>
  <dcterms:modified xsi:type="dcterms:W3CDTF">2012-02-05T11:30:27Z</dcterms:modified>
  <cp:revision>31</cp:revision>
  <dc:subject/>
  <dc:title>Slide 1</dc:title>
</cp:coreProperties>
</file>