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D24-7A67-4379-8AE5-724E0F82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7FDA-A3D1-4A91-8D73-0BBD6C21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E8EE-B805-42BD-B4EE-104F7081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D6B4-CC3E-4036-97F1-F97041A5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038-AF80-4692-A211-0A8C85A9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F3EB-431B-44DF-A8B5-14CDC3A2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82B-FB43-4DA7-8D2E-E068AD1F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679A-06CD-407C-B09D-B3D74813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E13-8783-4630-9CB4-6B4782A5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84F-29B2-474F-A533-AC765432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4109-0C7A-447F-AA70-65804FF3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E2F2-DC03-49C9-9CAE-9D76AA30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A2AB-29AB-4B82-B313-3880C1F01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9640" y="1052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9640" y="98100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434680" y="2276640"/>
            <a:ext cx="462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lika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avremenog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veta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ključne kompeten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za zanim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 savremen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nformacionom društ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6"/>
          <p:cNvSpPr/>
          <p:nvPr/>
        </p:nvSpPr>
        <p:spPr>
          <a:xfrm>
            <a:off x="395280" y="1413000"/>
            <a:ext cx="7991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buClr>
                <a:srgbClr val="1107d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107d7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Promene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u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savremenom svetu rada</a:t>
            </a:r>
            <a:r>
              <a:rPr b="0" lang="sr-Latn-CS" sz="2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stalni tehnološki razvoj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*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promene kao posledica globalizacije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fleksibilna organizacija rada i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fleksibilni vidovi zapošljavanja</a:t>
            </a:r>
            <a:br>
              <a:rPr sz="3200"/>
            </a:b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112392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11600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1557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684360" y="1341360"/>
            <a:ext cx="7948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9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Fleksibilni vidovi</a:t>
            </a:r>
            <a:r>
              <a:rPr b="1" lang="en-US" sz="3600" spc="-1" strike="noStrike">
                <a:solidFill>
                  <a:srgbClr val="ba3106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zapošljavanj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1107d7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veća samostalnost u radu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skraćeno radno vrem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mogućnost rada (k)od kuć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promene uloge polova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širenje uslužnih i informativnih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  zanim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1670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39640" y="105264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20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84360" y="1268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900000" y="191628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POSLEDIC</a:t>
            </a:r>
            <a:r>
              <a:rPr b="1" lang="en-US" sz="4400" spc="-1" strike="noStrike">
                <a:solidFill>
                  <a:srgbClr val="ba3106"/>
                </a:solidFill>
                <a:latin typeface="Arial"/>
              </a:rPr>
              <a:t>E</a:t>
            </a: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1042920" y="2924280"/>
            <a:ext cx="70214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M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SE PRIPREMAJU ZA SVET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ODRA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VEĆ 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7308720" y="4005360"/>
            <a:ext cx="12384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900000" y="1484280"/>
            <a:ext cx="696132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KLJUČNE KOMPETENCIJE ZA ZANIMANJA</a:t>
            </a:r>
            <a:br>
              <a:rPr sz="3600"/>
            </a:b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SAVREMENOG SVETA:</a:t>
            </a:r>
            <a:r>
              <a:rPr b="1" lang="sr-Latn-CS" sz="3600" spc="-1" strike="noStrike">
                <a:solidFill>
                  <a:srgbClr val="d30b1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11280" y="342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NANJA, VEŠTINE I STAVOVI KOJI OMOGUĆUJU D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LADA OSOBA USPEŠNO UKLJUČI U SAVREME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VET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 rot="21271800">
            <a:off x="5435640" y="4292640"/>
            <a:ext cx="22320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539640" y="1413000"/>
            <a:ext cx="820764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Samost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Lična odgov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Lična inicijativa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Sposobnost timsk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1076400" cy="1105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j0281025"/>
          <p:cNvPicPr/>
          <p:nvPr/>
        </p:nvPicPr>
        <p:blipFill>
          <a:blip r:embed="rId3"/>
          <a:stretch/>
        </p:blipFill>
        <p:spPr>
          <a:xfrm>
            <a:off x="7524720" y="1844640"/>
            <a:ext cx="828720" cy="162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067280" y="3500280"/>
            <a:ext cx="1114200" cy="7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6372360" y="4581360"/>
            <a:ext cx="13683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68360" y="765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95280" y="1628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1039680" y="1001880"/>
            <a:ext cx="7732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reati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                        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Samopro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Spremnost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eloživotno učenje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omunikacijska i                                jezička kompet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564000" y="126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7308720" y="1557360"/>
            <a:ext cx="1584360" cy="146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125892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5"/>
          <a:stretch/>
        </p:blipFill>
        <p:spPr>
          <a:xfrm>
            <a:off x="5076720" y="4653000"/>
            <a:ext cx="172872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39640" y="836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0000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324000" y="1298520"/>
            <a:ext cx="882000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Informati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kompetencija                  *Mo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Fleksi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                        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Otvorenost za pro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Hrab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ilagod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933480" cy="1209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6443640" y="1341360"/>
            <a:ext cx="1085760" cy="110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3851280" y="2708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7236000" y="2492280"/>
            <a:ext cx="1750680" cy="198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6"/>
          <a:stretch/>
        </p:blipFill>
        <p:spPr>
          <a:xfrm>
            <a:off x="971640" y="4916520"/>
            <a:ext cx="1944720" cy="135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7"/>
          <a:stretch/>
        </p:blipFill>
        <p:spPr>
          <a:xfrm>
            <a:off x="6804000" y="4941720"/>
            <a:ext cx="1800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95280" y="836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68360" y="2708280"/>
            <a:ext cx="835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Zato razvijajmo kod mladih sposobnost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ORIJENT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a samostalno, aktivno, istraživački krenu u otkrivanje informacija o zanimanjima i mogućnostima ško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REĆN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22:27:43Z</dcterms:created>
  <dc:creator>vali</dc:creator>
  <dc:description/>
  <dc:language>en-US</dc:language>
  <cp:lastModifiedBy>WINDOWS XP</cp:lastModifiedBy>
  <dcterms:modified xsi:type="dcterms:W3CDTF">2012-02-07T11:46:05Z</dcterms:modified>
  <cp:revision>18</cp:revision>
  <dc:subject/>
  <dc:title>Slide 1</dc:title>
</cp:coreProperties>
</file>