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CCB2-97E5-4073-AD2E-3ECD64B9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56D-024F-4787-951D-7EC7B5E8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21B4-9614-4B33-88EC-0C27F99C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E38-1C93-46B7-92E9-C3936DE5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0791-AC6A-40F7-B9B8-6AA8A520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FCD-038E-4349-B138-63104F80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430-D7E4-4CBA-B188-18974586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C0E-56D1-4457-8E5C-25D7241C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945A-52D2-43EF-8622-72BD7ECA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DA7-5125-4B2C-B051-BE248202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393-66F2-4C4A-9B8E-2A3DAD21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4A4-9103-41F7-BC21-599E802D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35E0-EA27-4FBD-B328-B760841E9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93920" y="1987560"/>
            <a:ext cx="685800" cy="217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P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GOŠKE MOG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Ć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STI   I NAČINI OSTV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VAN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U Š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86280" y="2016000"/>
            <a:ext cx="2415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Times New Roman"/>
              </a:rPr>
              <a:t>PROGRAM PROFESIONALNE ORIJENTACI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učenike/učenice i mlade</a:t>
            </a:r>
            <a:r>
              <a:rPr b="0" lang="sr-CS" sz="1200" spc="-1" strike="noStrike">
                <a:solidFill>
                  <a:srgbClr val="99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72080" y="1978200"/>
            <a:ext cx="720720" cy="218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K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LAR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ML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7080" y="2982960"/>
            <a:ext cx="2349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Arial"/>
              </a:rPr>
              <a:t>PROGRAM OBU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multiplik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933720"/>
            <a:ext cx="182880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29264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4653000"/>
            <a:ext cx="26290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5013360"/>
            <a:ext cx="308592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999999"/>
                </a:solidFill>
                <a:latin typeface="Arial"/>
              </a:rPr>
              <a:t>INFORMACIJE O ZANIMANJIMA I KARIJE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5300640"/>
            <a:ext cx="331488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7362200">
            <a:off x="1351080" y="4287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766200">
            <a:off x="5072040" y="4251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2240" y="5194440"/>
            <a:ext cx="612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300360" y="5175360"/>
            <a:ext cx="468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60" y="5241960"/>
            <a:ext cx="13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rod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543096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Arial"/>
              </a:rPr>
              <a:t>Mreža škola,NSZ, privre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557360"/>
            <a:ext cx="4968720" cy="38880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na prela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sku u srednju ško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042920" y="1125000"/>
            <a:ext cx="6408720" cy="432000"/>
          </a:xfrm>
          <a:prstGeom prst="flowChartManualOperation">
            <a:avLst/>
          </a:prstGeom>
          <a:solidFill>
            <a:srgbClr val="fe18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280" y="1052640"/>
            <a:ext cx="8802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MATERIJALI ZA IMPLEMENTACIJU </a:t>
            </a:r>
            <a:br>
              <a:rPr sz="2400"/>
            </a:b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AOTS5M5" descr=""/>
          <p:cNvPicPr/>
          <p:nvPr/>
        </p:nvPicPr>
        <p:blipFill>
          <a:blip r:embed="rId2"/>
          <a:stretch/>
        </p:blipFill>
        <p:spPr>
          <a:xfrm>
            <a:off x="6948360" y="3860640"/>
            <a:ext cx="157032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1071400">
            <a:off x="755280" y="1915920"/>
            <a:ext cx="373536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RIRUČNIK ZA RAD 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UČENICIMA/UČENIC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071400">
            <a:off x="3347640" y="2997000"/>
            <a:ext cx="332568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ZA UČENIKE/UČE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1773360"/>
            <a:ext cx="9050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B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3 D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0880" y="830160"/>
            <a:ext cx="6960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ILJEVI OBUKE za PO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1501920"/>
            <a:ext cx="6130800" cy="1228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uspešnu primenu Programa PO sa učenicima/učenicama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osnovnim škol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13200" y="2205000"/>
            <a:ext cx="6130800" cy="1228680"/>
          </a:xfrm>
          <a:prstGeom prst="ellipse">
            <a:avLst/>
          </a:prstGeom>
          <a:solidFill>
            <a:srgbClr val="f8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za osiguranje i dostizanje principa, ciljeva i standarda postignuća učenika u oblasti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213000"/>
            <a:ext cx="6130800" cy="1359000"/>
          </a:xfrm>
          <a:prstGeom prst="ellipse">
            <a:avLst/>
          </a:prstGeom>
          <a:solidFill>
            <a:srgbClr val="cef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roditelja učenika za pružanje podrške i pomoći učenicima u usmeravanju njihovog profesionalnog razv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292640"/>
            <a:ext cx="6131160" cy="1160280"/>
          </a:xfrm>
          <a:prstGeom prst="ellipse">
            <a:avLst/>
          </a:prstGeom>
          <a:solidFill>
            <a:srgbClr val="c5f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spostavljanje saradnje i partnerstva sa institucijama i ustanovama za uspešnu implementaciju progr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6680" y="341964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43700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5360" y="135396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84720" y="4797360"/>
            <a:ext cx="28386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prać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procesu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7920" y="865080"/>
            <a:ext cx="69613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SPECIFIČNI CIL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9680" y="1428840"/>
            <a:ext cx="696132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240" y="1498680"/>
            <a:ext cx="7778880" cy="62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umevanje savremen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ncepta 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o multidimenzional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e akti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200" y="10684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781360"/>
            <a:ext cx="2838240" cy="157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vazilaženje razumev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rijere kao stati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tegor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prihvatanje da j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eloživotni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357720"/>
            <a:ext cx="283860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mena metoda, oblik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ehnika rada 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teraktivnim radionic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492280"/>
            <a:ext cx="820440" cy="61776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92428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50864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052640"/>
            <a:ext cx="3732480" cy="96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profesionalnih interes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skladu sa savremen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menama sveta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0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133720"/>
            <a:ext cx="3732120" cy="67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ljučivanje rodtitelja/staratelja u proces PO uče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13372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2852640"/>
            <a:ext cx="3732120" cy="87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radnja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 na lokalu u postiza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iljeva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3789360"/>
            <a:ext cx="3732120" cy="121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d na umrežavanju na lokal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regionalnom nivou i to sa drug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kolama i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400536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5084640"/>
            <a:ext cx="3732120" cy="6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rišćenje i razvijanje materijala iz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501336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44696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O IZBORA ISPRAVNOG PUTA OBRAZOVANJA I ODLUKE ZA ZANIMANJA – KROZ PET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9320" y="2095200"/>
            <a:ext cx="696132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724280"/>
            <a:ext cx="3314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933720"/>
            <a:ext cx="3085920" cy="449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Times New Roman"/>
              </a:rPr>
              <a:t>INFORMACIJE O ZANIMANJIMA I KARIJ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284640"/>
            <a:ext cx="2628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70828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2133720"/>
            <a:ext cx="182880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6760" y="3219480"/>
            <a:ext cx="1305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960960" cy="69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MOSPOZN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64000" y="3933720"/>
            <a:ext cx="1682640" cy="150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1989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Interes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06864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Vred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205000"/>
            <a:ext cx="15159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Kakav/va s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i kako 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drugi v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2060640"/>
            <a:ext cx="2084400" cy="1017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Veštine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o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3213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Očeki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221000"/>
            <a:ext cx="2084400" cy="1017720"/>
          </a:xfrm>
          <a:prstGeom prst="ellipse">
            <a:avLst/>
          </a:prstGeom>
          <a:solidFill>
            <a:srgbClr val="e9f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Timsk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4437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ad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803736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FORMACIJE  O  ZANIMANJIMA I KARIJ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adionice info" descr=""/>
          <p:cNvPicPr/>
          <p:nvPr/>
        </p:nvPicPr>
        <p:blipFill>
          <a:blip r:embed="rId2"/>
          <a:stretch/>
        </p:blipFill>
        <p:spPr>
          <a:xfrm>
            <a:off x="1633680" y="3075120"/>
            <a:ext cx="182556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14760" y="247968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vet za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6080" y="429732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Putevi karij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341360"/>
            <a:ext cx="729612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UTEVI OBRAZ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944720" cy="1895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2205000"/>
            <a:ext cx="3030480" cy="170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Mreža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96360" y="177336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476440" cy="8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27352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39680" y="1411200"/>
            <a:ext cx="6961320" cy="690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EALNI SUSRE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241800" cy="302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2852640"/>
            <a:ext cx="2873520" cy="1936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Raspitivanj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i</a:t>
            </a: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roba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u svetu 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270828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38160" y="1214280"/>
            <a:ext cx="6961320" cy="6908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ODLU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rofa na kompu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9622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CA0DCXQ3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1050840" cy="660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27440" y="2284560"/>
            <a:ext cx="3063960" cy="2441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 ISPRAVN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PUTA OBRAZO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ZANIMAN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757520" cy="167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908000" y="4149720"/>
            <a:ext cx="14954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2106720"/>
            <a:ext cx="86407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ormisanje i saglasnost: nastavničkog veća, školskog odbora, saveta roditel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skurikularni-integrativni pristup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s odeljenjske zajed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 vannastavnih akti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bornom predm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zent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javljivanje zainteresovanih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štavanje rod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ja implementacij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radionica sa učenicima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apredjivanje programa: specijaliz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i dobre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ćenje, izveštavanje, evalu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268280"/>
            <a:ext cx="5769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EDAGOŠKE MOGUĆNOSTI U OSNOVNIM ŠKO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1640" y="1197000"/>
            <a:ext cx="1171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1268280"/>
            <a:ext cx="7816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PODRŠKA, SARADNICI, OSLONCI</a:t>
            </a:r>
            <a:r>
              <a:rPr b="1" lang="sr-Latn-CS" sz="3600" spc="-1" strike="noStrike">
                <a:solidFill>
                  <a:srgbClr val="99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968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prosvete i nauke M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omladine i sporta 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cionalna služba za zapošlj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v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ntervju par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3241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20:53:43Z</dcterms:created>
  <dc:creator>marina</dc:creator>
  <dc:description/>
  <dc:language>en-US</dc:language>
  <cp:lastModifiedBy>WINDOWS XP</cp:lastModifiedBy>
  <dcterms:modified xsi:type="dcterms:W3CDTF">2012-02-07T11:58:21Z</dcterms:modified>
  <cp:revision>26</cp:revision>
  <dc:subject/>
  <dc:title>Slide 1</dc:title>
</cp:coreProperties>
</file>