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C5B9-89ED-4DCE-AF6B-7D3BC0D05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FE6F-B6ED-4B28-8650-A23E4C1FC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0B70-B657-4E88-8100-21DB95D7D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582A-021E-46DF-A349-B531A4CEB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3B16-1141-48FE-BDAF-16448A715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27E1-5D44-4312-8C71-B575F11DC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D2AB-C6D4-4B1C-9F93-C594FB18A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6C81-EEA6-4CCE-92B7-7BF8BE4F4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995B-049F-40C3-B9EF-85E05BC5F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863B-01F5-430B-9BE0-90249044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55D6-EAF9-495A-9922-1B4E27F2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D4A8-C92F-4D49-AB2B-A1BADB2B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085C2-ED00-4070-A8B6-4CA6E49E9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jpe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80880" y="266760"/>
            <a:ext cx="8763120" cy="6591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1219320"/>
            <a:ext cx="62485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entor u GIZ </a:t>
            </a:r>
            <a:r>
              <a:rPr b="1" lang="sr-Latn-CS" sz="4400" spc="-1" strike="noStrike">
                <a:solidFill>
                  <a:srgbClr val="ff0000"/>
                </a:solidFill>
                <a:latin typeface="Arial"/>
              </a:rPr>
              <a:t>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sr-Latn-CS" sz="4400" spc="-1" strike="noStrike">
                <a:solidFill>
                  <a:srgbClr val="ff0000"/>
                </a:solidFill>
                <a:latin typeface="Arial"/>
              </a:rPr>
              <a:t>Profesional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0000"/>
                </a:solidFill>
                <a:latin typeface="Arial"/>
              </a:rPr>
              <a:t>orijentacija na prelasku u srednju školu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group mentoring"/>
          <p:cNvPicPr/>
          <p:nvPr/>
        </p:nvPicPr>
        <p:blipFill>
          <a:blip r:embed="rId2"/>
          <a:stretch/>
        </p:blipFill>
        <p:spPr>
          <a:xfrm>
            <a:off x="5076720" y="3860640"/>
            <a:ext cx="3456000" cy="19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04920" y="228600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228600" y="91440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Kroz obuke i mentorstvo u Projektu   obezbeđujemo LJUDSKI RESURS PO:</a:t>
            </a:r>
            <a:r>
              <a:rPr b="0" lang="sr-Latn-C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26920" y="1628640"/>
            <a:ext cx="7010640" cy="44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Na kraju školske 2011/12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220 obučenih tročlanih timova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Najmanje 100 x 220 učenika koji su prošli program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26 mentorskih škola-14 MOŠ 1 i  12 MOŠ 2 sa petočlanim timovima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26 +....Vršnjačkih timova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180 BOŠ  škola koje razvijaju mrežu PO ško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KONKURS ZA BUDUĆE TRENERE PO iz timova MOŠ/BOŠ i koordinatora RC koji su prošli obuku i R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Izgrađena mreža škola i partnera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96840"/>
            <a:ext cx="9144000" cy="65912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04920" y="228600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228600" y="914040"/>
            <a:ext cx="822960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Kroz obuke i mentorstvo u Projektu   obezbeđujemo LJUDSKI RESURS PO:</a:t>
            </a:r>
            <a:r>
              <a:rPr b="0" lang="sr-Latn-C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6920" y="1484280"/>
            <a:ext cx="701064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Na kraju školske 2012/13.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Uz 220 još 400  obučenih timova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Iz 620 škola  po 100 učenika koji su prošli program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26  + .... mentorskih škola-MO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26 +...Vršnjačkih timova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520 BOŠ škola koje razvijaju mrežu Po ško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OBUČENI  TRENERI  za PO obuku u svakom regionu i R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Razrađena mreža PO škola i partnera-postoje protokoli i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96840"/>
            <a:ext cx="9144000" cy="6591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28600" y="1484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ff0000"/>
                </a:solidFill>
                <a:latin typeface="Arial"/>
              </a:rPr>
              <a:t>Na kraju treće godine Projekta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808080"/>
                </a:solidFill>
                <a:latin typeface="Arial"/>
              </a:rPr>
              <a:t>PO Program u svih 1104 škole Srbij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808080"/>
                </a:solidFill>
                <a:latin typeface="Arial"/>
              </a:rPr>
              <a:t>Održivost kvaliteta garantuju profesionalci –PO timovi u svih 1104 škole :BOŠ/MO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808080"/>
                </a:solidFill>
                <a:latin typeface="Arial"/>
              </a:rPr>
              <a:t>Obučeni treneri : 22 trenera iz inicijalne grupe i 11 parova trenera-po svakom RC jedan trenerski par(iz RC i iz školskog tim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808080"/>
                </a:solidFill>
                <a:latin typeface="Arial"/>
              </a:rPr>
              <a:t>MREŽA PO STABIL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839080" cy="6591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0880" y="762120"/>
            <a:ext cx="419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Cilj mentorstva je 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50920" y="134100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neformalni prenos relevantnih znanja, veština, iskustva i psihosociјalne podrške za kariјeru i/ili profesionalni razvo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dvosmernu razmenu ideja, informacija, koja stimuliše sposobnosti pojedinca/grupe</a:t>
            </a:r>
            <a:r>
              <a:rPr b="1" lang="fr-FR" sz="2400" spc="-1" strike="noStrike">
                <a:solidFill>
                  <a:srgbClr val="808080"/>
                </a:solidFill>
                <a:latin typeface="Arial"/>
              </a:rPr>
              <a:t> da 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uč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niz faza koje se kreću od opažanja, pokazivanja svoje prakse i učenja po modelu, do vođene prakse i, na kraju, do samostalne primene</a:t>
            </a:r>
            <a:r>
              <a:rPr b="1" lang="fr-FR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naučen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534440" y="2060640"/>
            <a:ext cx="16095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3520" y="266760"/>
            <a:ext cx="8610480" cy="6591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3520" y="106668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Dobar mentorski program</a:t>
            </a: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83059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Postoji dobar sistem podrške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Mentori/mentorke (i početnici/početnice) obezbeđuju dovoljno vremena za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Mentorski program je jasan sv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Postoji poverljivost u mentorskom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Postoji praćenje rada par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Postoji merenje rezult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667640" y="3789360"/>
            <a:ext cx="111456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52480" y="0"/>
            <a:ext cx="8291520" cy="6591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group mentoring"/>
          <p:cNvPicPr/>
          <p:nvPr/>
        </p:nvPicPr>
        <p:blipFill>
          <a:blip r:embed="rId2"/>
          <a:stretch/>
        </p:blipFill>
        <p:spPr>
          <a:xfrm rot="20382600">
            <a:off x="971280" y="2565000"/>
            <a:ext cx="2300040" cy="2362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group mentoring"/>
          <p:cNvPicPr/>
          <p:nvPr/>
        </p:nvPicPr>
        <p:blipFill>
          <a:blip r:embed="rId3"/>
          <a:stretch/>
        </p:blipFill>
        <p:spPr>
          <a:xfrm rot="20270400">
            <a:off x="2411280" y="2060280"/>
            <a:ext cx="2300400" cy="23619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435640" y="1295280"/>
            <a:ext cx="3403440" cy="46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N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iz faz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INICIJALNA FA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Definisati cilje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Utvrditi </a:t>
            </a: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strukturu,sadržaj, bro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sastana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2.REALIZ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obezediti napred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3.FINAL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Dogovor kako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završiti </a:t>
            </a: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pro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kada su ciljevi postigu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324000" y="620640"/>
            <a:ext cx="167616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912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47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sr-Latn-CS" sz="4000" spc="-1" strike="noStrike">
                <a:solidFill>
                  <a:srgbClr val="ff0000"/>
                </a:solidFill>
                <a:latin typeface="Arial"/>
              </a:rPr>
              <a:t>rvi krug obuk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group mentoring"/>
          <p:cNvPicPr/>
          <p:nvPr/>
        </p:nvPicPr>
        <p:blipFill>
          <a:blip r:embed="rId2"/>
          <a:stretch/>
        </p:blipFill>
        <p:spPr>
          <a:xfrm>
            <a:off x="5651640" y="1125360"/>
            <a:ext cx="2736720" cy="1944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68360" y="2708280"/>
            <a:ext cx="68580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Trener B/mentor daje podršku  MOŠ timu   za  zadatk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1. Razrađen plan implementacije PO u MOŠ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2. Formiranje Vršnjačkofg tima 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3. Izgrađivanje partnerskih odnosa sa BOŠ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4. Umrežavanje sa partner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5. Priprema tima MOŠ 1 za mentorisanje MOŠ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155736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entor kreira svoj plan mentorstva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443640" y="3500280"/>
            <a:ext cx="124776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91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836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Drugi  krug obu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group mentoring"/>
          <p:cNvPicPr/>
          <p:nvPr/>
        </p:nvPicPr>
        <p:blipFill>
          <a:blip r:embed="rId2"/>
          <a:stretch/>
        </p:blipFill>
        <p:spPr>
          <a:xfrm>
            <a:off x="611280" y="1700280"/>
            <a:ext cx="2087640" cy="1728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3645000"/>
            <a:ext cx="8675640" cy="27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Trener B/mentor i dalje mentoriše MOŠ 1 tim, posredno MOŠ 2 t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-daje podršku MOŠ 1 da izradi plan mentorstva za MOŠ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-podržava zajedničke susrete i razmenu iskustva MOŠ 1 –MOŠ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-mentori MOŠ 1 i MOŠ 2 ostvaruju tesnu saradnj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-Mentorisanje i vodjenje  MOŠ2 prelazi u ruke tima  MOŠ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-zajedno grade mrežu partnerstva PO/partneri/BOŠ/MO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group mentoring"/>
          <p:cNvPicPr/>
          <p:nvPr/>
        </p:nvPicPr>
        <p:blipFill>
          <a:blip r:embed="rId3"/>
          <a:stretch/>
        </p:blipFill>
        <p:spPr>
          <a:xfrm>
            <a:off x="6156360" y="1484280"/>
            <a:ext cx="2087640" cy="1728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700360" y="2276640"/>
            <a:ext cx="3311640" cy="1223640"/>
          </a:xfrm>
          <a:prstGeom prst="leftRightArrow">
            <a:avLst>
              <a:gd name="adj1" fmla="val 50000"/>
              <a:gd name="adj2" fmla="val 538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MOŠ 1 mentoriše MOŠ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group mentoring"/>
          <p:cNvPicPr/>
          <p:nvPr/>
        </p:nvPicPr>
        <p:blipFill>
          <a:blip r:embed="rId2"/>
          <a:stretch/>
        </p:blipFill>
        <p:spPr>
          <a:xfrm>
            <a:off x="250920" y="1916280"/>
            <a:ext cx="3352680" cy="2376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group mentoring"/>
          <p:cNvPicPr/>
          <p:nvPr/>
        </p:nvPicPr>
        <p:blipFill>
          <a:blip r:embed="rId3"/>
          <a:stretch/>
        </p:blipFill>
        <p:spPr>
          <a:xfrm>
            <a:off x="5796000" y="1773360"/>
            <a:ext cx="3003480" cy="2519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30200" y="4437000"/>
            <a:ext cx="8713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Š 1 tim   preuzima ulogu mentora za MOŠ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Š 1 izradio plan mentorstva / razradio oblast specijalizacije; ima primere dobre praks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Š 1  i MOŠ 2 povezuju Vršnjačke timove PO</a:t>
            </a:r>
            <a:r>
              <a:rPr b="1" lang="sr-Latn-CS" sz="1800" spc="-1" strike="noStrike">
                <a:solidFill>
                  <a:srgbClr val="80808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3500280"/>
            <a:ext cx="2666880" cy="838440"/>
          </a:xfrm>
          <a:prstGeom prst="leftRightArrow">
            <a:avLst>
              <a:gd name="adj1" fmla="val 50000"/>
              <a:gd name="adj2" fmla="val 633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3132000" y="1700280"/>
            <a:ext cx="792360" cy="6490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5219640" y="1628640"/>
            <a:ext cx="863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1532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Mentor MOŠ pomaže MOŠ 1/2 da se povežu u partnerstvu sa BOŠ 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group mentoring"/>
          <p:cNvPicPr/>
          <p:nvPr/>
        </p:nvPicPr>
        <p:blipFill>
          <a:blip r:embed="rId2"/>
          <a:stretch/>
        </p:blipFill>
        <p:spPr>
          <a:xfrm>
            <a:off x="395280" y="1341360"/>
            <a:ext cx="1873080" cy="1827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group mentoring"/>
          <p:cNvPicPr/>
          <p:nvPr/>
        </p:nvPicPr>
        <p:blipFill>
          <a:blip r:embed="rId3"/>
          <a:stretch/>
        </p:blipFill>
        <p:spPr>
          <a:xfrm>
            <a:off x="395280" y="3500280"/>
            <a:ext cx="1871640" cy="1825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group mentoring"/>
          <p:cNvPicPr/>
          <p:nvPr/>
        </p:nvPicPr>
        <p:blipFill>
          <a:blip r:embed="rId4"/>
          <a:stretch/>
        </p:blipFill>
        <p:spPr>
          <a:xfrm>
            <a:off x="6659640" y="1413000"/>
            <a:ext cx="1523880" cy="1485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group mentoring"/>
          <p:cNvPicPr/>
          <p:nvPr/>
        </p:nvPicPr>
        <p:blipFill>
          <a:blip r:embed="rId5"/>
          <a:stretch/>
        </p:blipFill>
        <p:spPr>
          <a:xfrm>
            <a:off x="6732720" y="3645000"/>
            <a:ext cx="1523880" cy="1485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group mentoring"/>
          <p:cNvPicPr/>
          <p:nvPr/>
        </p:nvPicPr>
        <p:blipFill>
          <a:blip r:embed="rId6"/>
          <a:stretch/>
        </p:blipFill>
        <p:spPr>
          <a:xfrm>
            <a:off x="6659640" y="2205000"/>
            <a:ext cx="1523880" cy="1486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403280" y="4797360"/>
            <a:ext cx="6697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MOŠ 1 razvio saradnički/partnerski odnos sa BOŠ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MOŠ 2 razvio saradnički/partnerski odnos sa BOŠ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Na lokalu stvoreni  uslovi za  zajedničke  akcije   PO MOŠ/BO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2050920" y="3284640"/>
            <a:ext cx="800280" cy="5619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8"/>
          <a:stretch/>
        </p:blipFill>
        <p:spPr>
          <a:xfrm>
            <a:off x="2050920" y="2637000"/>
            <a:ext cx="800280" cy="5619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132000" y="2852640"/>
            <a:ext cx="2667240" cy="838440"/>
          </a:xfrm>
          <a:prstGeom prst="leftRightArrow">
            <a:avLst>
              <a:gd name="adj1" fmla="val 50000"/>
              <a:gd name="adj2" fmla="val 6332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8579600">
            <a:off x="2778840" y="2773800"/>
            <a:ext cx="3560760" cy="838080"/>
          </a:xfrm>
          <a:prstGeom prst="leftRightArrow">
            <a:avLst>
              <a:gd name="adj1" fmla="val 50000"/>
              <a:gd name="adj2" fmla="val 845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2875200">
            <a:off x="2759040" y="2865240"/>
            <a:ext cx="3600360" cy="838080"/>
          </a:xfrm>
          <a:prstGeom prst="leftRightArrow">
            <a:avLst>
              <a:gd name="adj1" fmla="val 50000"/>
              <a:gd name="adj2" fmla="val 855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9"/>
          <a:stretch/>
        </p:blipFill>
        <p:spPr>
          <a:xfrm>
            <a:off x="7020000" y="3068640"/>
            <a:ext cx="799920" cy="5619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 rot="5185800">
            <a:off x="2758680" y="2649240"/>
            <a:ext cx="3600720" cy="838080"/>
          </a:xfrm>
          <a:prstGeom prst="leftRightArrow">
            <a:avLst>
              <a:gd name="adj1" fmla="val 50000"/>
              <a:gd name="adj2" fmla="val 855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33520" y="2133720"/>
            <a:ext cx="8378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175248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Dobiti od </a:t>
            </a:r>
            <a:r>
              <a:rPr b="0" lang="sr-Latn-CS" sz="4000" spc="-1" strike="noStrike">
                <a:solidFill>
                  <a:srgbClr val="ff0000"/>
                </a:solidFill>
                <a:latin typeface="Arial"/>
              </a:rPr>
              <a:t>mentorstv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2437920"/>
            <a:ext cx="4038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Za mentore/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ticanje novih znanja i iskust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tvrda postojećih veština i razvoj novi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širenje mrež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lika za razmišlj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Lično zadovoljst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obijanje slike o ambicijama, talentima i percepcijama novih početnika/počet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48320" y="2362320"/>
            <a:ext cx="403848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Za početnike/primao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zvijanje samopouzd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Bolji profesionalni i lični razvo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zgradnja plana razvo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zgradnja ličnih kapacit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zmena znanja i iskust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enadžersko tutorst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širenje mrež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reiranje savezništ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poznavanje sa drugim organizacionim kultu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21046800">
            <a:off x="1332360" y="90792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omic Sans MS"/>
              </a:rPr>
              <a:t>Zašto biti u mentorskom odnos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6T07:33:37Z</dcterms:created>
  <dc:creator>vali</dc:creator>
  <dc:description/>
  <dc:language>en-US</dc:language>
  <cp:lastModifiedBy>Valerija Živković</cp:lastModifiedBy>
  <dcterms:modified xsi:type="dcterms:W3CDTF">2012-06-26T09:14:01Z</dcterms:modified>
  <cp:revision>20</cp:revision>
  <dc:subject/>
  <dc:title>Slide 1</dc:title>
</cp:coreProperties>
</file>