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38B6-0926-4E1A-B99E-14E0DFA47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73AC-7011-410C-8826-DD562E42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D41B-E417-4711-B151-75A1DC55E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7335-AF29-4DF3-87B6-6B724977F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9ED2-7AA4-4DB5-92D4-0EADD2AF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67DB-B076-43E9-A001-110EC9C6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76EB-2F58-492D-9E64-E8C22C4A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73C8-1029-431D-9BC8-F8A5FB77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A94A-FFE3-42EF-8390-6F0876EB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EFB3-E8C6-4D2B-9DF9-182DCF28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9738-E42A-491B-9EA8-F3EBEE8D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C90F-F276-4476-8FA5-5480FE03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F139-FD59-43BD-A072-0832B34A1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тицање знања, вештина и компетенција пр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сионалаца за рад са младим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з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у петофазног процесног модела професионалне оријентације и стварање системске мреже подршке у области професионалне оријент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865160"/>
            <a:ext cx="701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447920"/>
            <a:ext cx="86104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пшти циљ програма базичне об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к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3880" y="1143000"/>
            <a:ext cx="69613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286000"/>
            <a:ext cx="853416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напређивање знања, вештина и компетенција професионалаца з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имену модела ПО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оз модуле: самоспознаја, информисање о занимањима, каријери и путевима образовања, реални сусрети са светом рада и доношење одлуке о школи и занимањ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ршку у остваривању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еал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х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сре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са партнерима у области ПО: средње школе;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калне канцеларије за младе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ционална служба за запошљавање; привре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д са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одитељ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а на пружању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дршк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еци у  процесу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есионалног информисања и саветовања  до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оношењ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одлуке о избору школе и занимањ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оцесно оријентисано индивидуално праћење младих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области професионалне оријентациј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режавање професионалац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институција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 ширење идеје о процесном петофазном моделу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есионалне оријентације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990720"/>
            <a:ext cx="88390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Специфични циљеви базичне обу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ск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у у средњу шко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MP</cp:lastModifiedBy>
  <dcterms:modified xsi:type="dcterms:W3CDTF">2012-02-04T13:21:13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