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1CC9-7440-48F3-997F-2589BFDB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7279-FE11-4966-A23A-1D681492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325B-27B3-4994-8477-3386851AA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1BC3-75CF-460B-8155-1FFEFF944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532D-7C6D-4270-B43C-2006934C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B76A-D146-4C9C-821C-A8E6FDE3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5774-FCBA-4F34-9811-F1228D62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2D31-CDBF-4876-A30A-2F49D93D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C17B-F50D-4501-8F5E-71353E64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A927-EE8A-479A-B665-E2E559A1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213C-09C2-4F09-91B3-13597088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7A37-A244-4EE8-8C1C-5A6666AA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A102-B259-41B7-9834-83ACA463E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DOBRA PRAKSA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492280"/>
            <a:ext cx="7010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3300"/>
                </a:solidFill>
                <a:latin typeface="Arial"/>
              </a:rPr>
              <a:t>KRITERIJUMI U P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4797360"/>
            <a:ext cx="7056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teratura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/Izvo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Roditelji i škola:kako do uspešne saradnj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Jelena Vranješević, Učiteljski fakultet, Beogr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48000" y="3357720"/>
            <a:ext cx="3095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bu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eograd, Smedere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9.06.-01.07.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Dobra prak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) Uvodi nešto no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klanja postojeće barij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dstiče dalje promene u toj obla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2) Služi da osvetli postojeće probleme, podstiče pitanja u određenoj oblasti i proces kritičkog preispit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3) Nosi sa sobom određeni stepen riz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4) Prethodi proveri svoje efik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5) Multikontekstualna - može da se primeni i u drugim kontekst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Primer dobre prakse u P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Š “Đura Jakšić” Kikin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ilj: Uključivanje roditelja u cilju unapređivanja kvaliteta Programa 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Zadata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znalaženje mehanizama  za  aktivno uključivanje roditelja škole u program “ PO na prelasku u srednju škol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daju doprinos u svakoj fazi PO procesa: zajedno sa učenicima prolaze radionice; zajedno sa učenicima u  kreativnim  akcijama- Po kvizovi, PO izleti; Po kokteli; roditelji kao edukatori o svom zanimanju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ditelji kao PR Programa P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Osnovni princip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radnja roditelja i nastavnika tokom celog procesa implementacije progra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pitivanje potreba roditelja i učeni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reiranje akcija u odnosu na identifikovane potre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Rezultat – mini projeka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Plan specijalizacije u oblasti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ključivanje roditelja u svaki segment- fazu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inicijatori i realizatori  aktivnosti PO, zajedno sa svojom deco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motivatori  drugih rodite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u ulozi edukatora  u ško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907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3300"/>
                </a:solidFill>
                <a:latin typeface="Arial"/>
              </a:rPr>
              <a:t>Provera –zašto smo rekli “DA,ovo je dobra praksa! 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Uvodi nešto novo</a:t>
            </a:r>
            <a:r>
              <a:rPr b="0" lang="sr-Latn-CS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roditelji kao res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aradnja tokom celog procesa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inicija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Multikontekstua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Održivost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aktivnosti u projektu su postale deo godišnjeg plana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Obuhvatnost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– uključeni roditelji učenika od 1-8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9640" y="76500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Provera svakog DA kroz “obruč” kriterijum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79640" y="2276640"/>
            <a:ext cx="3816360" cy="345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56000" y="2781360"/>
            <a:ext cx="2736720" cy="23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851280" y="3789360"/>
            <a:ext cx="1368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987280" y="3212640"/>
            <a:ext cx="792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107928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2421000"/>
            <a:ext cx="1942920" cy="2016000"/>
          </a:xfrm>
          <a:custGeom>
            <a:avLst/>
            <a:gdLst>
              <a:gd name="textAreaLeft" fmla="*/ 0 w 1942920"/>
              <a:gd name="textAreaRight" fmla="*/ 1943280 w 1942920"/>
              <a:gd name="textAreaTop" fmla="*/ 0 h 2016000"/>
              <a:gd name="textAreaBottom" fmla="*/ 2016360 h 2016000"/>
            </a:gdLst>
            <a:ahLst/>
            <a:rect l="textAreaLeft" t="textAreaTop" r="textAreaRight" b="textAreaBottom"/>
            <a:pathLst>
              <a:path w="21600" h="21600">
                <a:moveTo>
                  <a:pt x="1513" y="16313"/>
                </a:moveTo>
                <a:arcTo wR="-10800" hR="-10800" stAng="8958158" swAng="-9238260"/>
                <a:lnTo>
                  <a:pt x="36" y="11679"/>
                </a:lnTo>
                <a:arcTo wR="10800" hR="10800" stAng="10519897" swAng="9238260"/>
                <a:lnTo>
                  <a:pt x="22408" y="3908"/>
                </a:lnTo>
                <a:lnTo>
                  <a:pt x="21465" y="7608"/>
                </a:lnTo>
                <a:lnTo>
                  <a:pt x="17765" y="666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1141000">
            <a:off x="5219280" y="3357360"/>
            <a:ext cx="21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333399"/>
                </a:solidFill>
                <a:latin typeface="Verdana"/>
              </a:rPr>
              <a:t>RODITELJI ZAJEDNO SA UČENICIMA NA SVIM RADIONIC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10:09:56Z</dcterms:created>
  <dc:creator>Valerija Živković</dc:creator>
  <dc:description/>
  <dc:language>en-US</dc:language>
  <cp:lastModifiedBy>Valerija Živković</cp:lastModifiedBy>
  <dcterms:modified xsi:type="dcterms:W3CDTF">2012-06-26T10:33:16Z</dcterms:modified>
  <cp:revision>6</cp:revision>
  <dc:subject/>
  <dc:title>Slide 1</dc:title>
</cp:coreProperties>
</file>