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FEAD-B6A9-489D-B05E-94427637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AD7-4247-43CA-B2D1-6CB2FA28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0DC9-D3F6-411F-AD40-08E6E0A3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F2BC-0E22-4E0A-B90F-C9141196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614-CB93-4300-87AA-3AD0B5E9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F7F-5815-483C-A4E3-947BCCBA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4A1-5F8C-4102-B036-CEFD85C3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A4E-F3E1-4A80-B2BF-4AD8131E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1F0-4317-407B-BC66-ADF9C66C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93B-E4EE-42CB-A70D-FC2EE1E9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BE5F-7936-40C4-80AF-F63CB187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047-1ADE-4FD6-9C92-90102573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C256-F357-4F81-9E3F-6D60280FF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: С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моспозна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ње програма и портфолија за ученике/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 и договарање о начину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интересо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ештина и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ре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моспознаја – ауто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очима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кав/каква сам у ти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ј тип уч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 за 10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родитеље/старетеље и децу: Моја очек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,3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формисање о занимањима, каријери и путевима образ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а савременог света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4. Прикупљање и начин обраде информација  о школама и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5. Повезивање области рада са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6. Путеви образовања и 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7. Припрема за интерв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8. Спровођење интервј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9. Припрема сусрета са експертима у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. Експерти у нашој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5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лни сусрети са светом рада и доношење одлуке о школовању и заним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1. Осверт на резултате информ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2. Посета средњој 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3. Посета предузећу/устан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4. Евалуација програма ПО за 7. раз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+ 15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часова реалних сус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3:00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