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D62E-D6C7-46AB-8A37-C349A2C3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A949-3DD9-45F1-890F-FD97D308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1EA5-C1E2-47A2-80E5-8264E329C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A278-8414-42C2-81DC-21487F1C7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14AC-7C14-49BA-B757-202A9870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9AD1-61E9-4430-A0A7-4BE7A7D7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24E4-246B-4552-A4B3-004D2835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549E-731B-46C6-B631-A2EEA8BE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6344-C893-4173-ABD9-A4C4AB74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821C-FCB2-4AD5-BEE8-39FB58A7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689C-A5DA-447B-B5E1-907565D7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85DD-823D-4D53-9320-D9EEB2B8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8F63-0DBE-416B-AB8A-56C202E62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3"/>
          <p:cNvSpPr/>
          <p:nvPr/>
        </p:nvSpPr>
        <p:spPr>
          <a:xfrm>
            <a:off x="468360" y="1484280"/>
            <a:ext cx="83930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STRAŽIVANJE POČETNOG STANJA POTREBA ZA 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714240" y="2071800"/>
            <a:ext cx="800100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raživan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avilo procenom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četnog stanja potreba učenika za profesionalnom orijentacijom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njihovih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etenci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 donesu adekvatnu odluku o svom daljem školovanju i budućem zanim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to: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osnovnih škola širom Srbije, obuhvaćenih prvim projektnim ciklusom: 14 MOŠ (sve MOŠ uključene u prvom ciklusu) i 11 BOŠ (slučajan uzora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pitani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930 učenika sedmog (384)  i osmog razreda (5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procen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pitnik za učenike POU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eme: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vembar 201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3"/>
          <p:cNvSpPr/>
          <p:nvPr/>
        </p:nvSpPr>
        <p:spPr>
          <a:xfrm>
            <a:off x="642960" y="1500120"/>
            <a:ext cx="8001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ZULTA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zvori primljenih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714240" y="2643120"/>
            <a:ext cx="800100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ečno, mladi su se obavestili o budućem zanimanju iz 3 od mogućih 8 izvora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češć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išćeni izvori informacija s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odica i vršnjaci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z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inu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čenika su to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in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zvori informac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man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išćeni izvori informacija: ps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olozi/pedagoz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ja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ji se bave zanimanjem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uzeća/instituci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kojima se zanimanje obavlj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je od petine učenika učenika koristi barem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zv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3"/>
          <p:cNvSpPr/>
          <p:nvPr/>
        </p:nvSpPr>
        <p:spPr>
          <a:xfrm>
            <a:off x="642960" y="1500120"/>
            <a:ext cx="80010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Značaj izvora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714240" y="2214720"/>
            <a:ext cx="80010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ad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o i zrelo procenjuju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 koji informisanost  i različiti izvori informacija imaju za odluku o obrazovanju i  zanim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bro procenjuj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 pojedinih informaci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kojima s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oljno obavešten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su svesni značaja informacija o obrazovanju i zanimanjima koje se dobijaju 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ktnom kontaktu sa budućim školama i firmam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kojima se data zanimanja obavlja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3"/>
          <p:cNvSpPr/>
          <p:nvPr/>
        </p:nvSpPr>
        <p:spPr>
          <a:xfrm>
            <a:off x="642960" y="1500120"/>
            <a:ext cx="80010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blasti rada i kvalitet odluči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714240" y="2143080"/>
            <a:ext cx="800100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ti rada za koje su mladi zainteresov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adi prosečno biraj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d navedene 22 oblasti r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ike razlike u popularnosti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ti - od 3% do 43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n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ne razlik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popularnosti skoro svih obla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alitet odlučivanja učeni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ći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čenika se smatr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im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donošenje ispravne odluke o školovanju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s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potrebnih kora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međ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etvrtine i petine učenika nije spremno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donošenje odluke o budućem školovanju/zanimanju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3"/>
          <p:cNvSpPr/>
          <p:nvPr/>
        </p:nvSpPr>
        <p:spPr>
          <a:xfrm>
            <a:off x="642960" y="150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ZULTATI  - Rodne razli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714240" y="2033640"/>
            <a:ext cx="8001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informacije iz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e socijalne sredine i medi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ča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iz šire socijalne sred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snije značaja informisan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odnosu na dečake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voreni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prevazilaženj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nih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ereotipa u oblasti zanimanja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reli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proces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lučivan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profesiji i obrazovan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esovanje z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ličite oblasti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a je kod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je raznovrsno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 kod dečaka  - manja sloboda izbora i više društvenih ograničenja za devojči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642960" y="150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ZAKLJUČAK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714240" y="2033640"/>
            <a:ext cx="80010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nici pokazuj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o i zrelo zaključivan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značaju informisanja u oblastima o kojima imaju dovoljno podatak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ju potrebu z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rišćenjem više različitih izvora informaci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osebn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uzeća i institucije u kojima se obavljaju zanim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jaka koji se bave željenim zanimanj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jaka za profesionalnu orijentaci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manje za jednu petinu učenika j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uka za profesionalnu orijentaciju ključ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donošenje informisane odluke o školovanju/zanim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3"/>
          <p:cNvSpPr/>
          <p:nvPr/>
        </p:nvSpPr>
        <p:spPr>
          <a:xfrm>
            <a:off x="642960" y="150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ZAKLJUČAK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714240" y="2033640"/>
            <a:ext cx="80010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šće psihologa, pedagoga i nastavnika, kao i uključivanje drugih organizacija, preduzeća i škol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profesionalnoj orijentaciji učenika n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daleka ne zadovoljava njihove potreb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am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 potrebna podrška da b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bodnije i samopouzdanije birali zaniman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a odgovaraju njihovim sposobnost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1T14:50:13Z</dcterms:created>
  <dc:creator>Jasna</dc:creator>
  <dc:description/>
  <dc:language>en-US</dc:language>
  <cp:lastModifiedBy>WINDOWS XP</cp:lastModifiedBy>
  <dcterms:modified xsi:type="dcterms:W3CDTF">2012-02-13T22:03:20Z</dcterms:modified>
  <cp:revision>36</cp:revision>
  <dc:subject/>
  <dc:title>Slide 1</dc:title>
</cp:coreProperties>
</file>