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C03F-C91C-4608-BBC9-2059046E1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20EC-D688-4112-BCFF-EFDDA19B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DC2C-D5D6-4FCA-AF5F-A701CCCA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146E-583A-4ABB-B042-DDDF87B86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0030-63E4-4C55-B76D-295AD148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1543-58D7-404D-8670-7E5A3F95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8936-FE02-4E8B-B2F1-A2345AF7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2291-55B0-4830-AB55-FCAFD009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DA0A-FCEE-4C61-8CAB-FC673102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1DE6-0B8E-4937-AA9A-D4B7C478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4A16-0BF1-4192-9CC3-84DE7380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8A50-CE16-4F8E-BF3B-20524465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8F4D-857D-4426-9DB6-9C326AD63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GIZ</a:t>
            </a:r>
            <a:br>
              <a:rPr sz="4400"/>
            </a:br>
            <a:r>
              <a:rPr b="1" lang="sr-Latn-CS" sz="4400" spc="-1" strike="noStrike">
                <a:solidFill>
                  <a:srgbClr val="a50021"/>
                </a:solidFill>
                <a:latin typeface="Arial"/>
              </a:rPr>
              <a:t>Profesionalna orijentacija na prelasku u srednju ško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44197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odeli implementacije programa profesionalne orijent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Modeli implementaci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Krukulum: 7. i 8. razred – nastava profesionalne orijent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Interdisciplinarno/kroskurikularno – integrisana u nastavne predm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PO u okviru projek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a50021"/>
                </a:solidFill>
                <a:latin typeface="Arial"/>
              </a:rPr>
              <a:t>Kurikul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amostalan predmet se više ce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O u toku godine sa jednim časom nedeljno omogućava primenu petofaznog mode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napredjuje se I razvija lična, predmetna I metodička kompetenc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enici doživljavaju aktivnu nast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tvoreni vidovi uč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bezbedjena primena vežb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ljučne kompetencije se prenose na efikasan nač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nažnije otvaranje škole prema spoljnjem svetu – realni susre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ogućnost organizacije realnih susr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Transparentnost o zbivanjima u nastavi za roditelje/staratel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anje posla oko koordinac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oditelji/staratelji prepoznaju dobit za decu kroz pripremu za buduće zanimanje I školova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cesno praćenj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a50021"/>
                </a:solidFill>
                <a:latin typeface="Arial"/>
              </a:rPr>
              <a:t>Interdisciplinarno/kroskurikularno – integrisana u nastavne predm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U 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7.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i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 8.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razredu integriš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se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sa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 30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časova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PO u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predmet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I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predaj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se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interdisciplina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Odlik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e prepoznavanje značaja PO za nastavnike, roditelje/staratelje I eksterne školske partn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iše posla oko koordin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a orijentisanost prema nastavnom pla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težana realizacija petofaznog modela u prak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dostatak kontinuiteta za razvoj kompetencije orijent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dovoljno vežbi sa primenom različitih met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eže otvaranje škole iz organizacionih razlo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a mogućnost za sprovodjenje realnih susr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dostatak transparentnosti za roditelje/staratel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odatni časovi za ostvarivanje realnih susr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a50021"/>
                </a:solidFill>
                <a:latin typeface="Arial"/>
              </a:rPr>
              <a:t>PO u okviru projek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nje se opaža značaj PO kao doprinos životnoj orijentac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trebno je još termina od jednog ( školska godina ) za projek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na petofazng modela može duže da tr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mpetencija orijentacije može da se razvija I unapredju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na otvorenih vidova učenja postoji ali nedostaje kontinuit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tvaranje škole prema spolja zavisi od strukture projek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ći poslovi koordin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odatni časovi za realne susrete u 7. I 8. razr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no ostvarljivo u praksi - potvrdjuje iskustvo iz pilot projek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153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Koordinator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0" y="1143000"/>
          <a:ext cx="914400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4300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153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Kompetencij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k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oordinator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04920" y="1143000"/>
          <a:ext cx="861048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143000"/>
                    <a:ext cx="86104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Mala </a:t>
            </a:r>
            <a:r>
              <a:rPr b="0" lang="sr-Latn-CS" sz="4000" spc="-1" strike="noStrike">
                <a:solidFill>
                  <a:srgbClr val="a50021"/>
                </a:solidFill>
                <a:latin typeface="Arial"/>
              </a:rPr>
              <a:t>pomoć prijatelja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438280"/>
            <a:ext cx="8229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akultativni pred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jekat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asovi odeljenjske zajednice za učenike/ce 7. I 8. razr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izacija kroz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asovi slobodnih vannastavnih aktivnosti uče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a50021"/>
                </a:solidFill>
                <a:latin typeface="Arial"/>
              </a:rPr>
              <a:t>Vaš predlog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 j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WINDOWS XP</cp:lastModifiedBy>
  <dcterms:modified xsi:type="dcterms:W3CDTF">2011-10-04T13:20:40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