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7D9-428A-46CA-B4C9-344B570B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FF9-41CB-4EF9-A25C-D0D3950C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697-6EE1-4B51-901D-DFC9C64F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690-50FD-4BA1-9942-589D172E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B3B-0D27-43AD-9F33-B913F05E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E16-AC0A-40B4-B5FD-E2B0F65C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A1F-93AB-4FCC-8D09-B2DB2D7C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77C-F793-4611-902F-DB250FC7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852E-3A06-4B41-A54D-4D3D027F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EE0-67C9-4EDE-BE47-CA25AB0A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512-61AF-45F3-8E12-D28C094B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83B-F18C-443B-9436-0BC38040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6B8C-86BE-40CC-8B42-DAF861F9E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ицање знања, вештина и компетенција п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сионалаца за рад са млад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у петофазног процесног модела професионалне оријентације и стварање системске мреже подршке у области професионалне ориј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пшти циљ програма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14300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0"/>
            <a:ext cx="85341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апређивање знања, вештина и компетенција професионалаца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ну модела П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з модуле: самоспознаја, информисање о занимањима, каријери и путевима образовања, реални сусрети са светом рада и доношење одлуке о школи и занимањ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ршку у остварив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ал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ср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партнерима у области ПО: средње школе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не канцеларије за млад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ционална служба за запошљавање; привр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 с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дите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а на пруж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рш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и у  процес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ог информисања и саветовања  до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ношењ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одлуке о избору школе и занимањ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но оријентисано индивидуално праћење млади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бласти професионалне оријентациј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режавање професионалац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нституциј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ширење идеје о процесном петофазном модел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е оријентациј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839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ецифични циљеви базичне обу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MP</cp:lastModifiedBy>
  <dcterms:modified xsi:type="dcterms:W3CDTF">2012-02-04T13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