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A20-564C-43EF-8AB6-83F4D7FA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CD3-2F15-4A3C-90D8-A30DFA5F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F4C1-EED3-4A9B-9F72-DDDA891E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5609-627E-4693-B347-7389E337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63CA-D195-43F0-9C7C-7A8F70B0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1A6-D1E1-47D2-BF9A-EBA7708A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1524-4393-4667-AB40-ED82ED3E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7D6B-9904-4F4E-B93A-307444B5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4AA9-521C-4EF1-AF9D-A6F8D3FC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660-73D1-4622-AFE6-F225C0B0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FA1-A35F-44C0-B954-6E7D0FFB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2F6-FA99-4E3F-BEBC-89E5D193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2652-35C2-4992-8303-70817C985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ицање знања, вештина и компетенција п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сионалаца за рад са млад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у петофазног процесног модела професионалне оријентације и стварање системске мреже подршке у области професионалне оријен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пшти циљ програма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114300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0"/>
            <a:ext cx="85341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апређивање знања, вештина и компетенција професионалаца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ну модела П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з модуле: самоспознаја, информисање о занимањима, каријери и путевима образовања, реални сусрети са светом рада и доношење одлуке о школи и занимањ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ршку у остварив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ал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ср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са партнерима у области ПО: средње школе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калне канцеларије за младе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ционална служба за запошљавање; привр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 с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дитељ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а на пруж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рш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и у  процес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ог информисања и саветовања  до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ношењ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одлуке о избору школе и занимањ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цесно оријентисано индивидуално праћење млади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области професионалне оријентациј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режавање професионалац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нституциј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ширење идеје о процесном петофазном модел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е оријентације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90720"/>
            <a:ext cx="8839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пецифични циљеви базичне обу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MP</cp:lastModifiedBy>
  <dcterms:modified xsi:type="dcterms:W3CDTF">2012-02-04T13:21:1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