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504-AE80-4E67-9133-AEF97FAA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B2C1-89CA-4535-9345-CCF78F84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CB4-0E51-4329-A044-123BADA4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A2B-74CC-4A62-BF1C-44BBB091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7B1-0C57-417A-94D4-E9F87001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0A30-9CD3-47D8-B585-508827A2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5A3-5DBF-405D-9F2D-7D0DB2A2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5E5-7282-4337-90B3-9F397AC4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955-5282-4342-83B9-95EC5E8D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9239-FC81-43EC-AF52-A2CD80AC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1AD-211A-4EBC-993F-F69B939B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2024-FE69-4610-8B60-BBD8CD45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5BC2-5B53-4E0A-B0F0-3ACA54FD9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fesional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orijentacija na prelasku u srednju školu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1628640"/>
            <a:ext cx="7010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a kraju školske 2011/12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20 obučenih tročla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Najmanje 100 x 22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mentorskih škola-14 MOŠ 1 i  12 MOŠ 2 sa petočlanim timovim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180 BOŠ 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KONKURS ZA BUDUĆE TRENERE PO iz timova MOŠ/BOŠ i koordinatora RC koji su prošli obuku i 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Izgrađena mreža škola i partner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296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484280"/>
            <a:ext cx="70106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Na kraju školske 2012/13.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Uz 220 još 400  obuče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Iz 620 škola  po 10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 + .... mentorskih škola-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520 BOŠ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OBUČENI  TRENERI  za PO obuku u svakom regionu i R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Razrađena mreža PO škola i partnera-postoje protokoli i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6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Na kraju treće godine Projekt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PO Program u svih 1104 škole Srbij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drživost kvaliteta garantuju profesionalci –PO timovi u svih 1104 škole :BOŠ/MO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bučeni treneri : 22 trenera iz inicijalne grupe i 11 parova trenera-po svakom RC jedan trenerski par(iz RC i iz školskog t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MREŽA PO STABIL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7621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ilj mentorstva je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eformalni prenos relevantnih znanja, veština, iskustva i psihosociјalne podrške za kariјeru i/ili profesionalni razvo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vosmernu razmenu ideja, informacija, koja stimuliše sposobnosti pojedinca/grup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da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iz faza koje se kreću od opažanja, pokazivanja svoje prakse i učenja po modelu, do vođene prakse i, na kraju, do samostalne primen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aučen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34440" y="2060640"/>
            <a:ext cx="1609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8610480" cy="659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0666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Dobar mentorski program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dobar sistem podrške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i/mentorke (i početnici/početnice) obezbeđuju dovoljno vremena z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ski program je jasan s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overljivost u mentorskom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raćenje rada pa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ostoji merenje rezul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7640" y="3789360"/>
            <a:ext cx="1114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2480" y="0"/>
            <a:ext cx="8291520" cy="659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2"/>
          <a:stretch/>
        </p:blipFill>
        <p:spPr>
          <a:xfrm rot="20382600">
            <a:off x="971280" y="2565000"/>
            <a:ext cx="230004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3"/>
          <a:stretch/>
        </p:blipFill>
        <p:spPr>
          <a:xfrm rot="20270400">
            <a:off x="2411280" y="2060280"/>
            <a:ext cx="230040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35640" y="1295280"/>
            <a:ext cx="34034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z fa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INICIJALNA F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Definisati cilj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tvrd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trukturu,sadržaj, b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astan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.REAL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obezediti napre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3.FIN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Dogovor kako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vrš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kada su ciljevi postig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1676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rvi krug obu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group mentoring"/>
          <p:cNvPicPr/>
          <p:nvPr/>
        </p:nvPicPr>
        <p:blipFill>
          <a:blip r:embed="rId2"/>
          <a:stretch/>
        </p:blipFill>
        <p:spPr>
          <a:xfrm>
            <a:off x="5651640" y="1125360"/>
            <a:ext cx="273672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2708280"/>
            <a:ext cx="6858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rener B/mentor daje podršku  MOŠ timu   za  zadat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1. Razrađen plan implementacije PO u MOŠ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2. Formiranje Vršnjačkofg tima 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3. Izgrađivanje partnerskih odnosa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4. Umrežavanje sa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5. Priprema tima MOŠ 1 za mentorisanje 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ntor kreira svoj plan mentorstva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43640" y="3500280"/>
            <a:ext cx="12477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Drugi  krug obu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group mentoring"/>
          <p:cNvPicPr/>
          <p:nvPr/>
        </p:nvPicPr>
        <p:blipFill>
          <a:blip r:embed="rId2"/>
          <a:stretch/>
        </p:blipFill>
        <p:spPr>
          <a:xfrm>
            <a:off x="611280" y="1700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645000"/>
            <a:ext cx="867564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Trener B/mentor i dalje mentoriše MOŠ 1 tim, posredno MOŠ 2 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daje podršku MOŠ 1 da izradi plan mentorstva za 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podržava zajedničke susrete i razmenu iskustva MOŠ 1 –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 MOŠ 1 i MOŠ 2 ostvaruju tesnu saradn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sanje i vodjenje  MOŠ2 prelazi u ruke tima  MOŠ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zajedno grade mrežu partnerstva PO/partneri/BOŠ/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group mentoring"/>
          <p:cNvPicPr/>
          <p:nvPr/>
        </p:nvPicPr>
        <p:blipFill>
          <a:blip r:embed="rId3"/>
          <a:stretch/>
        </p:blipFill>
        <p:spPr>
          <a:xfrm>
            <a:off x="6156360" y="1484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00360" y="2276640"/>
            <a:ext cx="3311640" cy="1223640"/>
          </a:xfrm>
          <a:prstGeom prst="leftRightArrow">
            <a:avLst>
              <a:gd name="adj1" fmla="val 50000"/>
              <a:gd name="adj2" fmla="val 538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MOŠ 1 mentoriše MOŠ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group mentoring"/>
          <p:cNvPicPr/>
          <p:nvPr/>
        </p:nvPicPr>
        <p:blipFill>
          <a:blip r:embed="rId2"/>
          <a:stretch/>
        </p:blipFill>
        <p:spPr>
          <a:xfrm>
            <a:off x="250920" y="1916280"/>
            <a:ext cx="3352680" cy="23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group mentoring"/>
          <p:cNvPicPr/>
          <p:nvPr/>
        </p:nvPicPr>
        <p:blipFill>
          <a:blip r:embed="rId3"/>
          <a:stretch/>
        </p:blipFill>
        <p:spPr>
          <a:xfrm>
            <a:off x="5796000" y="1773360"/>
            <a:ext cx="3003480" cy="251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0200" y="443700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preuzima ulogu mentora za MOŠ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zradio plan mentorstva / razradio oblast specijalizacije; ima primere dobre prak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 i MOŠ 2 povezuju Vršnjačke timove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500280"/>
            <a:ext cx="2666880" cy="838440"/>
          </a:xfrm>
          <a:prstGeom prst="leftRightArrow">
            <a:avLst>
              <a:gd name="adj1" fmla="val 50000"/>
              <a:gd name="adj2" fmla="val 633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132000" y="1700280"/>
            <a:ext cx="792360" cy="649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219640" y="162864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entor MOŠ pomaže MOŠ 1/2 da se povežu u partnerstvu sa BOŠ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group mentoring"/>
          <p:cNvPicPr/>
          <p:nvPr/>
        </p:nvPicPr>
        <p:blipFill>
          <a:blip r:embed="rId2"/>
          <a:stretch/>
        </p:blipFill>
        <p:spPr>
          <a:xfrm>
            <a:off x="395280" y="1341360"/>
            <a:ext cx="1873080" cy="182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group mentoring"/>
          <p:cNvPicPr/>
          <p:nvPr/>
        </p:nvPicPr>
        <p:blipFill>
          <a:blip r:embed="rId3"/>
          <a:stretch/>
        </p:blipFill>
        <p:spPr>
          <a:xfrm>
            <a:off x="395280" y="3500280"/>
            <a:ext cx="1871640" cy="18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group mentoring"/>
          <p:cNvPicPr/>
          <p:nvPr/>
        </p:nvPicPr>
        <p:blipFill>
          <a:blip r:embed="rId4"/>
          <a:stretch/>
        </p:blipFill>
        <p:spPr>
          <a:xfrm>
            <a:off x="6659640" y="1413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group mentoring"/>
          <p:cNvPicPr/>
          <p:nvPr/>
        </p:nvPicPr>
        <p:blipFill>
          <a:blip r:embed="rId5"/>
          <a:stretch/>
        </p:blipFill>
        <p:spPr>
          <a:xfrm>
            <a:off x="6732720" y="3645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group mentoring"/>
          <p:cNvPicPr/>
          <p:nvPr/>
        </p:nvPicPr>
        <p:blipFill>
          <a:blip r:embed="rId6"/>
          <a:stretch/>
        </p:blipFill>
        <p:spPr>
          <a:xfrm>
            <a:off x="6659640" y="2205000"/>
            <a:ext cx="1523880" cy="148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03280" y="479736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1 razvio saradnički/partnerski odnos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2 razvio saradnički/partnerski odnos sa 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Na lokalu stvoreni  uslovi za  zajedničke  akcije   PO MOŠ/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050920" y="328464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050920" y="2637000"/>
            <a:ext cx="800280" cy="561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32000" y="2852640"/>
            <a:ext cx="2667240" cy="838440"/>
          </a:xfrm>
          <a:prstGeom prst="leftRightArrow">
            <a:avLst>
              <a:gd name="adj1" fmla="val 50000"/>
              <a:gd name="adj2" fmla="val 63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579600">
            <a:off x="2778840" y="277380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875200">
            <a:off x="2759040" y="2865240"/>
            <a:ext cx="3600360" cy="838080"/>
          </a:xfrm>
          <a:prstGeom prst="leftRightArrow">
            <a:avLst>
              <a:gd name="adj1" fmla="val 50000"/>
              <a:gd name="adj2" fmla="val 85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020000" y="3068640"/>
            <a:ext cx="799920" cy="561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5185800">
            <a:off x="2758680" y="2649240"/>
            <a:ext cx="3600720" cy="838080"/>
          </a:xfrm>
          <a:prstGeom prst="leftRightArrow">
            <a:avLst>
              <a:gd name="adj1" fmla="val 50000"/>
              <a:gd name="adj2" fmla="val 85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2133720"/>
            <a:ext cx="837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524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biti od 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mentorstv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mentore/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icanje novih znanja i isk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vrda postojećih veština i razvoj nov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lika za razmiš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čno zadovolj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ijanje slike o ambicijama, talentima i percepcijama novih početnika/počet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početnike/primao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ijanje samopouzd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olji profesionalni i lični raz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plana razv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ličnih kapacit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mena znanja i isku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nadžersko tuto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eiranje savez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poznavanje sa drugim organizacionim kultu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1046800">
            <a:off x="1332360" y="907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omic Sans MS"/>
              </a:rPr>
              <a:t>Zašto biti u mentorskom odnos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33:37Z</dcterms:created>
  <dc:creator>vali</dc:creator>
  <dc:description/>
  <dc:language>en-US</dc:language>
  <cp:lastModifiedBy>Valerija Živković</cp:lastModifiedBy>
  <dcterms:modified xsi:type="dcterms:W3CDTF">2012-06-26T09:14:01Z</dcterms:modified>
  <cp:revision>20</cp:revision>
  <dc:subject/>
  <dc:title>Slide 1</dc:title>
</cp:coreProperties>
</file>