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D6CF-E9E3-42FB-8C19-285E54E7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0A95-60AA-472D-874F-C14D1F72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AF23-95DF-4304-87A3-1E9E8CB7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05F-41E8-463D-A960-1A3D6072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EFC3-9888-40EC-AE46-0279ED21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F23-7149-4964-9257-5C5301A6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AAC-2FB2-42CF-BF6B-9F42FB17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42F-418E-4054-BF07-4B75BC04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BEE8-16B3-4B55-BD6A-8C93283E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FA1-EC5A-40F0-8A69-B2B1CB60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9D3-097D-4590-A02A-C5777085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CEBC-3ADF-4562-AE16-BECE831D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200B-D50D-49C0-AE1A-552848327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: С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амоспозна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стављање програма и портфолија за ученике/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 и договарање о начину 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интересо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ештина и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т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ред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моспознаја – аутопортр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очима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кав/каква сам у ти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ј тип уч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 за 10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 родитеље/старетеље и децу: Моја очеки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,3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формисање о занимањима, каријери и путевима образ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ка савременог света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4. Прикупљање и начин обраде информација  о школама и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5. Повезивање области рада са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6. Путеви образовања и 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7. Припрема за интерв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8. Спровођење интервју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9. Припрема сусрета са експертима у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. Експерти у нашој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,5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лни сусрети са светом рада и доношење одлуке о школовању и заним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1. Осверт на резултате информис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2. Посета средњој 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3. Посета предузећу/устан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4. Евалуација програма ПО за 7. раз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+ 15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часова реалних сус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3:00:5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