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46ED-C5FD-42E1-A24B-79BB179D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5F8A-CB0E-462E-B98E-A5D651B8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845-D514-4878-BD23-47A2DFE9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14C-35B5-4855-88FA-6633087D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4C16-384D-488B-BED2-4C9B9C33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249-1292-4F32-B1A4-BFD433D5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54A-7730-4EEC-9AA5-E3E7EF35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E203-59F1-46BF-87EA-57CC247A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71D5-0C37-4398-8295-05CA642A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6F3-A953-4691-8967-C9590DC6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B3CB-6A1B-4730-B06E-D79B366C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527-E60B-4BFD-A54C-45EB2018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F23B-19DA-48EF-91EC-61A171DA7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Z projeka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ionalna orijentacij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prelazu u srednju š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447920" y="2209680"/>
            <a:ext cx="6400800" cy="2667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 ПРЕЛА</a:t>
            </a:r>
            <a:r>
              <a:rPr b="1" lang="sr-R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ЕАЛНИ СУСР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52280" y="2209680"/>
            <a:ext cx="87631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ОБИ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Активно и искуствено уч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Допуњавање и упоређивање стечених теориј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знања о свету рада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и заним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Суочавање са информацијама доприно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формирању коначне одл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04920" y="1371600"/>
            <a:ext cx="84582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ИРЕКТНИ СУСРЕТИ СА СВЕТОМ РА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Распитивања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ИЗ ОБЛАСТИ ОБРАЗОВ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шко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СА РЕЛАВАНТНИМ ИНСТИТУЦИЈ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ационална служба за запошљавањ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Ц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ентри за информисање,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ив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НФОРМАТИВНЕ МАНИФЕСТ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Сајам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образовања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аја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заним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а 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Дани информисања о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редњи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школама –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Д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ан отворених 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усрети са експертима у настави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114800" y="1066680"/>
            <a:ext cx="426708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371600"/>
          <a:ext cx="8229600" cy="4191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7"/>
          <p:cNvSpPr/>
          <p:nvPr/>
        </p:nvSpPr>
        <p:spPr>
          <a:xfrm>
            <a:off x="533520" y="1676520"/>
            <a:ext cx="3968640" cy="3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РАСПИТИВАЊЕ</a:t>
            </a:r>
            <a:r>
              <a:rPr b="1" lang="sr-CS" sz="2000" spc="-1" strike="noStrike">
                <a:solidFill>
                  <a:srgbClr val="1107d7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, ПРЕДУЗЕЋ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рема за разгов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ијање конкр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датака за посмат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купљање инфор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4648320" y="1600200"/>
            <a:ext cx="4064040" cy="37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СПРОБАВАЊ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АКС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ПРЕДУЗЕЋ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према за учествовање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м процесу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да “правила игре”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лни сусрет (радни ста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ме понашања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поређивање да ли стеч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уства одговарају првобит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екив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29000" y="1066680"/>
            <a:ext cx="53341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Посебан изазов</a:t>
            </a:r>
            <a:r>
              <a:rPr b="0" lang="sr-Latn-CS" sz="1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испробавање пра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962520" y="1600200"/>
            <a:ext cx="50292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изање свести 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чају испробавања пракс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ршка законској регулативи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релевантних институ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твореност школе и привре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према ученика/ц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школе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еза са циљевима, исходима, стандарди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урикулу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оцедуре и правила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стваривање реалних сусрета кроз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са родитељ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учене лекциј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напређивање области реалних суср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скуство из пилота потврђује: мисија је могу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обити на свим ниво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спостављање системске подрш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P1019204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152280" y="1066680"/>
            <a:ext cx="160020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P1017108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28600" y="220968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P1019192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152280" y="33526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veterinar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2057400" y="1676520"/>
            <a:ext cx="1600200" cy="140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vrtic 1"/>
          <p:cNvPicPr/>
          <p:nvPr/>
        </p:nvPicPr>
        <p:blipFill>
          <a:blip r:embed="rId6"/>
          <a:stretch/>
        </p:blipFill>
        <p:spPr>
          <a:xfrm>
            <a:off x="2057400" y="3276720"/>
            <a:ext cx="164160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P1019182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228600" y="441972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2:02:10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