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8AF-85C2-4CEC-A73C-B3B77D66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C59-776F-4774-9739-55C793DD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6D1-D776-4F59-8108-F8DD6C84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E87-CC0C-4B25-BB1B-7050FE1C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91D-F3B6-43DE-8A90-7FD484B0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71B-C154-4E73-AC59-BFF5BC0B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EC8-7148-405D-B330-5BC52CA3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1E5-E5D3-4CF2-BC83-F5A49D7D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039-8A3F-4B35-A4C7-9D997794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B35-A51B-4C6B-8152-C6B5D05E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FA5-EFFC-4913-8406-066BBF1F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5CE4-57A7-4619-B357-4AF7D31C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9683-B0EF-460A-BEFB-38A6A36E0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49228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KRITERIJUMI U 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97360"/>
            <a:ext cx="705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teratura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/Izv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Roditelji i škola:kako do uspešne saradnj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Jelena Vranješević, Učiteljski fakultet, Beog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u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eograd, Smeder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9.06.-01.07.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) Uvodi nešto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lanja postojeće bari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stiče dalje promene u toj obl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) Služi da osvetli postojeće probleme, podstiče pitanja u određenoj oblasti i proces kritičkog preispit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3) Nosi sa sobom određeni stepen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) Prethodi proveri svoje efik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) Multikontekstualna - može da se primeni i u drugim konteks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imer dobre prakse u 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Š “Đura Jakšić” Kiki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lj: Uključivanje roditelja u cilju unapređivanja kvaliteta Programa 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Zadat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nalaženje mehanizama  za  aktivno uključivanje roditelja škole u program “ PO na prelasku u srednju škol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daju doprinos u svakoj fazi PO procesa: zajedno sa učenicima prolaze radionice; zajedno sa učenicima u  kreativnim  akcijama- Po kvizovi, PO izleti; Po kokteli; roditelji kao edukatori o svom zanimanju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itelji kao PR Program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Osnovni princip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radnja roditelja i nastavnika tokom celog procesa implementacije pr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itivanje potreba roditelja i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iranje akcija u odnosu na identifikovane potr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Rezultat – mini projek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Plan specijalizacije u oblasti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ljučivanje roditelja u svaki segment- fazu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 i realizatori  aktivnosti PO, zajedno sa svojom deco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motivatori  drugih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u ulozi edukatora  u ško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Provera –zašto smo rekli “DA,ovo je dobra praksa! 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Uvodi nešto novo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oditelji kao res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radnja tokom celog procesa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Multikontekstua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drživost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ktivnosti u projektu su postale deo godišnjeg plan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buhvatn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uključeni roditelji učenika od 1-8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overa svakog DA kroz “obruč” kriterijum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2276640"/>
            <a:ext cx="3816360" cy="34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781360"/>
            <a:ext cx="273672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51280" y="3789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987280" y="321264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1079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1942920" cy="2016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1513" y="16313"/>
                </a:moveTo>
                <a:arcTo wR="-10800" hR="-10800" stAng="8958158" swAng="-9238260"/>
                <a:lnTo>
                  <a:pt x="36" y="11679"/>
                </a:lnTo>
                <a:arcTo wR="10800" hR="10800" stAng="10519897" swAng="9238260"/>
                <a:lnTo>
                  <a:pt x="22408" y="3908"/>
                </a:lnTo>
                <a:lnTo>
                  <a:pt x="21465" y="7608"/>
                </a:lnTo>
                <a:lnTo>
                  <a:pt x="17765" y="666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141000">
            <a:off x="5219280" y="3357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Verdana"/>
              </a:rPr>
              <a:t>RODITELJI ZAJEDNO SA UČENICIMA NA SVIM RADIONI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0:09:56Z</dcterms:created>
  <dc:creator>Valerija Živković</dc:creator>
  <dc:description/>
  <dc:language>en-US</dc:language>
  <cp:lastModifiedBy>Valerija Živković</cp:lastModifiedBy>
  <dcterms:modified xsi:type="dcterms:W3CDTF">2012-06-26T10:33:16Z</dcterms:modified>
  <cp:revision>6</cp:revision>
  <dc:subject/>
  <dc:title>Slide 1</dc:title>
</cp:coreProperties>
</file>