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09E-0E18-4937-BA3F-28B67FF6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CFF-8641-4339-A28D-28872371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942-2800-4996-BEE7-A89DA5B2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104-683E-4716-9350-7CF24ADD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19F-888D-41BA-8F85-0A70F48D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657-5944-4138-AC69-CAF836F9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CC0-A072-4D0D-B232-FBA9DCD1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424-54A2-4446-B2A3-DF7802E6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108-46D4-4303-A59F-7DF89B46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E23-B6DC-4B16-8748-0DE8C68F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C61-706A-4B24-BF0B-09DDD183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5F8-BA89-40D2-A6CB-0CBD43E1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1756-A58A-4310-BF49-086754E7C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880" y="2924280"/>
            <a:ext cx="69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КОРАЦИ И 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АКТИВНОСТИ ТИМА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4240" y="1406520"/>
            <a:ext cx="66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в)УНОШЕЊЕ ПРОГРАМА У ШКОЛСКА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4960" y="1989000"/>
            <a:ext cx="699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грам ПО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ставни део Годишњег плана 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некс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Школског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з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део Школског развојног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ео самовредновања и екстерног вредновања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7640" y="1293840"/>
            <a:ext cx="8087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НТОРСКИ САСТАНЦИ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као под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шка школама по 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ЕДОВНИ КОНТАКТ СА ТРЕНЕРОМ/МЕНТОРОМ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 2/МОШ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 МЕНТОРСКА САСТАНК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СА КООРДИНАТОРОМ И ТИ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1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/М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0360" y="32130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573360"/>
            <a:ext cx="49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ОДРШК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МЕНТОРА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ИМПЛЕМЕНТАЦИЈИ ПРОГРАМ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ПАРТНЕРСКИМ И МЕНТОРСКИ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ОДНО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УМРЕЖАВАЊУ СА  ПО ПАРТНЕРИМ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1000" y="23493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КОРАЦИ ПО НАКОН БАЗИЧНЕ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За МОШ ТИМОВ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имплемент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јачање мреж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3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81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ОДАТНА ОБУКА КРОЗ 3 МОДУЛА ЗА МОШ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42812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ке за петочлане тимове МОШ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редитоване од стране ЗУОВ/МПН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-Оснаживање младих кроз самоспозн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7-Моду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  информисањем о занимањима, каријери и путевима образ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6-Моду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11. 0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за одлуку о занимању и школовању у сусрету са светом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5-Моду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1.0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1640" y="155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АРТНЕРСТВО/МЕНТОРСТВО  И МР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2000" y="2008080"/>
            <a:ext cx="70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2 су у партнерском односу са 9 БОШ1 из првог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буке, са којим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срећу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трећем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менторском саст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1 и 9БОШ 2 је у партнерском односу између себ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 МОШ1 и МОШ 2  у својој ср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 1   је у менторском односу са МОШ 2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ипрема МОШ 2 за менторство МОШ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494172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ВИ ОВИ ОДНОСИ ЗАЈЕДНО ЧИНЕ ПО  МРЕЖУ УЗАЈАМНЕ ПОДР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МОШ ТИМОВИ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492280"/>
            <a:ext cx="583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АЗВИЈАЈУ ОБЛАСТ СПЕЦИЈАЛИЗАЦИЈ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ГРАДЕ ПРИМЕРЕ ДОБРЕ ПРАКС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ПОДРЖАВАЈУ БОШ НА ПУТУ ДО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34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6192360" y="2817720"/>
            <a:ext cx="446436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СРЕЋ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Пред одлуком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ТАТИ Б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Ш?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ОСТА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МОШ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637000"/>
            <a:ext cx="78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9 ОШ ПОСТАЈУ БАЗИЧНЕ – Б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 ОШ постаје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МЕНТОР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–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НТОРСКИ СТАТУС СЕ ОСВАЈ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КВАЛИТЕТОМ ИМПЛЕМЕНТАЦИЈЕ И РАЗВОЈА 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КО ПОСТАТИ</a:t>
            </a:r>
            <a:br>
              <a:rPr sz="2400"/>
            </a:b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ЕНТОРСКА ШКОЛ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ТИМ ПРОЦЕНИ СЕБЕ И ШКОЛУ  КАО ПОТЕНЦИЈАЛ З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ПОПУНИ  ОДГОВАРАЈУЋИ  ОБРАЗАЦ ЗА ОСВАЈАЊЕ СТАТУС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ОДЛУКУ ЗА МОШ ДОНОСЕ НА ОСНОВУ ПРОПИСАНИХ КРИТЕРИЈУМА ТРЕНЕРИ, КООРДИНАТОР РЦ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ЦСУ/ЦКОО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 и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GIZ BOSS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ПРОЈЕКТНИ 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ТРОЧЛАНИ ПО ТИМ СЕ ПРОШИРУЈЕ У МОШ ЗА ЈОШ 2 ЧЛАНА и ПОХАЂА ОБУКУ ЗА МОДУЛЕ 1,2,3 И МЕНТОРСТ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" y="2997360"/>
            <a:ext cx="85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ПРОВОДИ АНКЕТУ УЧЕНИКА ЗА  УКЉУЧЕЊЕ  У ПРОГРА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ИБАВЉА САГЛАСНОСТ РОДИТЕЉ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за учешће ученика/ца 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ФОРМИРА ГРУПЕ УЧЕНИКА И ДОВРШАВА ПЛАН ИМПЛЕМЕНТАЦИЈЕ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1480" y="1413000"/>
            <a:ext cx="48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ФОРМИРАЊЕ ГРУПА УЧЕНИ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ЗРАДА ПЛАНА ИМПЛЕМЕНТ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формира најмање ЈЕДНУ  гр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гу да  је чине ученици 8. разреда или 7. раз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шови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  обухват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ом ПО  најмање  51% ученика 7. и 8. 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БОШ/МОШ 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груп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од 15-25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480" y="1052640"/>
            <a:ext cx="78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АНКЕТИРАЊЕ УЧЕНИКА ЗА  УКЉУЧИВАЊЕ  У ПРОГРА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И САГЛАСНОСТ РОДИТ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лог за сагласност родитељ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05000"/>
            <a:ext cx="8569440" cy="3529080"/>
          </a:xfrm>
          <a:prstGeom prst="foldedCorner">
            <a:avLst>
              <a:gd name="adj" fmla="val 12500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ВАНИ РОДИТЕЉУ/СТАРАТЕЉУ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,......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ост нам је да вашем  детету понудимо да  учествује у Програ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ПН и ГИЗ БОСС: ”Професионална оријентација на преласку у сред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у” и тако упозна своје склоности и интересовања у односу 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дућу школу/занимање, као и богатство света рада и занимања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жу школа , како би што самосталније могло да донесе одлуку 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у своје будуће школе/заним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 потписом, потврђујете своју сагласност:........................................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у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: 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8200" y="1335240"/>
            <a:ext cx="793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4160" y="2924280"/>
            <a:ext cx="74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АРА ПОДЕЛУ ПОСЛОВА УНУТАР ШКОЛСКОГ 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ЕЗЕНТУЈЕ ПРОГРАМ ПО ШКОЛСКИМ ОРГАНИМА И Т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НОСИ ПРОГРАМ ПО У ШКОЛСКА ДОКУМЕНТА КАО АН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а)ПОДЕЛА ПОСЛОВА УНУТАР ШКОЛСКОГ 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98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ко је 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координатор школског тим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з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о и како реализује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 презентацију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ПО родитељима ученика и ученицим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гажовањ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на анкетирању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зра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екса за школску докумен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ЗРАДА ПЛАНА ИМПЛЕМЕНТАЦИЈЕ ПРОГРАМА СА ДЕ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АЗВИЈАЊЕ ПАРТНЕРСТВА/МЕНТОРСТВА СА ПО ШКОЛАМА НА ЛОКА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0960" y="177336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б)ПРЕЗЕНТАЦИЈА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ГРАМА ШКОЛСКИМ ОРГАНИМА И 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" y="2421000"/>
            <a:ext cx="82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чин презентације програма договара школски 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ограм се  представља  Наставничком већу, Школском од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ченичком парламенту, Савету родитељ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верификуј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ао Ан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Циљ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нформисање свих релевантних  актера 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ктивностим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програм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 школ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чекиваним исх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13:13Z</dcterms:created>
  <dc:creator>vali</dc:creator>
  <dc:description/>
  <dc:language>en-US</dc:language>
  <cp:lastModifiedBy>WINDOWS XP</cp:lastModifiedBy>
  <dcterms:modified xsi:type="dcterms:W3CDTF">2012-02-05T12:02:50Z</dcterms:modified>
  <cp:revision>46</cp:revision>
  <dc:subject/>
  <dc:title>Slide 1</dc:title>
</cp:coreProperties>
</file>