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7E10-306F-4BFD-9C3F-171707B6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E877-33C0-4DF3-AA22-DCADBBB5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F6C1-4CF5-47E5-900A-DEDCE5D0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9C36-DC2F-401A-A381-33A6FC12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DD49-BF19-475F-8020-2E3FB4DD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4626-9919-4AE0-9879-887E751E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9263-CB1E-4CA3-A544-6F2640AA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D955-DB48-4F19-9BC4-23AE2C54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44E0-25A1-4479-8488-42F9CD36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332D-93A2-4025-8F10-24E7D2BC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683C-3FDE-407D-9D66-66A5A421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3B09-9312-4CF1-AAC7-C4E80E0F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1951-855C-4540-ABAC-66783FE3F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GIZ</a:t>
            </a:r>
            <a:br>
              <a:rPr sz="4400"/>
            </a:br>
            <a:r>
              <a:rPr b="1" lang="sr-Latn-CS" sz="4400" spc="-1" strike="noStrike">
                <a:solidFill>
                  <a:srgbClr val="a50021"/>
                </a:solidFill>
                <a:latin typeface="Arial"/>
              </a:rPr>
              <a:t>Profesionalna orijentacija na prelasku u srednju ško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44197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odeli implementacije programa profesionalne orijen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odeli implementac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Krukulum: 7. i 8. razred – nastava profesionalne orijent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Interdisciplinarno/kroskurikularno – integrisana u nastavne predm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PO u okviru projek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Kurikul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mostalan predmet se više ce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 u toku godine sa jednim časom nedeljno omogućava primenu petofaznog mode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napredjuje se I razvija lična, predmetna I metodička kompeten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ci doživljavaju aktivnu nast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tvoreni vidovi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bezbedjena primena vežb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ljučne kompetencije se prenose na efikasan nač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nažnije otvaranje škole prema spoljnjem svetu – 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ogućnost organizacije realnih susr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ransparentnost o zbivanjima u nastavi za roditelje/staratel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anje posla oko koordinac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oditelji/staratelji prepoznaju dobit za decu kroz pripremu za buduće zanimanje I školo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o praćenj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a50021"/>
                </a:solidFill>
                <a:latin typeface="Arial"/>
              </a:rPr>
              <a:t>Interdisciplinarno/kroskurikularno – integrisana u nastavne predm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 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8.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razredu integriš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sa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30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časova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 u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met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a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interdisciplina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dlik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e prepoznavanje značaja PO za nastavnike, roditelje/staratelje I eksterne školske partn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iše posla oko koordin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orijentisanost prema nastavnom pla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težana realizacija petofaznog modela u pra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kontinuiteta za razvoj kompetencije orijent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voljno vežbi sa primenom različitih met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eže otvaranje škole iz organizacionih razlo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mogućnost za sprovodje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transparentnosti za roditelje/staratel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datni časovi za ostvariva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a50021"/>
                </a:solidFill>
                <a:latin typeface="Arial"/>
              </a:rPr>
              <a:t>PO u okviru projek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nje se opaža značaj PO kao doprinos životnoj orijenta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rebno je još termina od jednog ( školska godina ) za projek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petofazng modela može duže da tr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mpetencija orijentacije može da se razvija I unapredju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otvorenih vidova učenja postoji ali nedostaje kontinui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tvaranje škole prema spolja zavisi od strukture pro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ći poslovi koordin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datni časovi za realne susrete u 7. I 8. razr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no ostvarljivo u praksi - potvrdjuje iskustvo iz pilot projek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mpetenci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k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920" y="1143000"/>
          <a:ext cx="861048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143000"/>
                    <a:ext cx="8610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ala </a:t>
            </a: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pomoć prijatelja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43828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 pred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odeljenjske zajednice za učenike/ce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kroz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slobodnih vannastavnih aktivnosti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Vaš predlog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j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1-10-04T13:20:40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