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1BCA-0705-434E-A4D4-F04240C8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2BEF-09C7-481E-AE4B-6169AA78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48D7-254D-4C14-B0FF-FB8A4D30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009F-30B3-46D5-B3B7-AFB55C99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CA6C-E6DB-4B69-A7DA-1F5353AE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AEEF-3C96-423A-8A4E-02286A7B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3E2D-35C0-4C04-9FCA-114BB0B3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69B6-7526-478B-9812-41813A81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AE13-D087-40B7-825D-689395EB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4A6D-5FB5-4A69-8D9E-0C1515BE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F0BD-F999-474E-A7E5-905106AF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02FC-9831-434F-8542-3F8AC156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D3E6-FFFE-4BD8-867E-3FFAF76A4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492280"/>
            <a:ext cx="701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KRITERIJUMI U P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797360"/>
            <a:ext cx="7056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teratura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/Izv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Roditelji i škola:kako do uspešne saradnj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Jelena Vranješević, Učiteljski fakultet, Beogr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3357720"/>
            <a:ext cx="30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bu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eograd, Smedere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9.06.-01.07.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) Uvodi nešto no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klanja postojeće barij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dstiče dalje promene u toj obla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) Služi da osvetli postojeće probleme, podstiče pitanja u određenoj oblasti i proces kritičkog preispit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3) Nosi sa sobom određeni stepen ri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4) Prethodi proveri svoje efik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5) Multikontekstualna - može da se primeni i u drugim konteks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imer dobre prakse u P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Š “Đura Jakšić” Kikin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ilj: Uključivanje roditelja u cilju unapređivanja kvaliteta Programa 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Zadata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nalaženje mehanizama  za  aktivno uključivanje roditelja škole u program “ PO na prelasku u srednju škol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daju doprinos u svakoj fazi PO procesa: zajedno sa učenicima prolaze radionice; zajedno sa učenicima u  kreativnim  akcijama- Po kvizovi, PO izleti; Po kokteli; roditelji kao edukatori o svom zanimanju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itelji kao PR Programa 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Osnovni princip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radnja roditelja i nastavnika tokom celog procesa implementacije progr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pitivanje potreba roditelja i učen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eiranje akcija u odnosu na identifikovane potre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Rezultat – mini projeka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Plan specijalizacije u oblasti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ključivanje roditelja u svaki segment- fazu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 i realizatori  aktivnosti PO, zajedno sa svojom deco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motivatori  drugih rodit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u ulozi edukatora  u ško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907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3300"/>
                </a:solidFill>
                <a:latin typeface="Arial"/>
              </a:rPr>
              <a:t>Provera –zašto smo rekli “DA,ovo je dobra praksa! 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Uvodi nešto novo</a:t>
            </a:r>
            <a:r>
              <a:rPr b="0" lang="sr-Latn-CS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roditelji kao res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aradnja tokom celog procesa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Multikontekstua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drživost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aktivnosti u projektu su postale deo godišnjeg plana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buhvatnost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– uključeni roditelji učenika od 1-8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964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overa svakog DA kroz “obruč” kriterijum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79640" y="2276640"/>
            <a:ext cx="3816360" cy="345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56000" y="2781360"/>
            <a:ext cx="2736720" cy="23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851280" y="3789360"/>
            <a:ext cx="1368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987280" y="3212640"/>
            <a:ext cx="792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1079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2421000"/>
            <a:ext cx="1942920" cy="201600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1600" h="21600">
                <a:moveTo>
                  <a:pt x="1513" y="16313"/>
                </a:moveTo>
                <a:arcTo wR="-10800" hR="-10800" stAng="8958158" swAng="-9238260"/>
                <a:lnTo>
                  <a:pt x="36" y="11679"/>
                </a:lnTo>
                <a:arcTo wR="10800" hR="10800" stAng="10519897" swAng="9238260"/>
                <a:lnTo>
                  <a:pt x="22408" y="3908"/>
                </a:lnTo>
                <a:lnTo>
                  <a:pt x="21465" y="7608"/>
                </a:lnTo>
                <a:lnTo>
                  <a:pt x="17765" y="666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1141000">
            <a:off x="5219280" y="3357360"/>
            <a:ext cx="21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333399"/>
                </a:solidFill>
                <a:latin typeface="Verdana"/>
              </a:rPr>
              <a:t>RODITELJI ZAJEDNO SA UČENICIMA NA SVIM RADIONIC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10:09:56Z</dcterms:created>
  <dc:creator>Valerija Živković</dc:creator>
  <dc:description/>
  <dc:language>en-US</dc:language>
  <cp:lastModifiedBy>Valerija Živković</cp:lastModifiedBy>
  <dcterms:modified xsi:type="dcterms:W3CDTF">2012-06-26T10:33:16Z</dcterms:modified>
  <cp:revision>6</cp:revision>
  <dc:subject/>
  <dc:title>Slide 1</dc:title>
</cp:coreProperties>
</file>