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84F9-20F5-41BD-B8B5-94E9AC61C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5969-78DA-44E6-AD9E-11408E578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3176-7FD4-4333-B8FA-DA354BF40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698B-6AE0-4A45-816C-1529C32C4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3C70-C488-4F07-BABB-C27306A7F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25E8-1236-4706-B0BE-FFF65419C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9A9F-610C-4BB5-9076-ECEAB37D4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32F9-86BA-408A-8560-5D29CE344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8498-4DDE-45C6-A243-A963CDEED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47AA-4842-4ABE-BB5C-96CE00C9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7EE0-DA04-49E4-9031-E4D22B0A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6FD0-9268-4C54-856E-80C5846D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3D555-3206-4878-BFD1-EE142F8D4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80880" y="266760"/>
            <a:ext cx="8763120" cy="6591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1219320"/>
            <a:ext cx="624852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Mentor u GIZ </a:t>
            </a:r>
            <a:r>
              <a:rPr b="1" lang="sr-Latn-CS" sz="4400" spc="-1" strike="noStrike">
                <a:solidFill>
                  <a:srgbClr val="cc0000"/>
                </a:solidFill>
                <a:latin typeface="Arial"/>
              </a:rPr>
              <a:t>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808080"/>
                </a:solidFill>
                <a:latin typeface="Arial"/>
              </a:rPr>
              <a:t>“</a:t>
            </a:r>
            <a:r>
              <a:rPr b="1" lang="sr-Latn-CS" sz="3600" spc="-1" strike="noStrike">
                <a:solidFill>
                  <a:srgbClr val="808080"/>
                </a:solidFill>
                <a:latin typeface="Arial"/>
              </a:rPr>
              <a:t>Profesional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808080"/>
                </a:solidFill>
                <a:latin typeface="Arial"/>
              </a:rPr>
              <a:t>orijentacija na prelasku u srednju školu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00"/>
                </a:solidFill>
                <a:latin typeface="Arial"/>
              </a:rPr>
              <a:t>-Drugi krug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obu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group mentoring"/>
          <p:cNvPicPr/>
          <p:nvPr/>
        </p:nvPicPr>
        <p:blipFill>
          <a:blip r:embed="rId2"/>
          <a:stretch/>
        </p:blipFill>
        <p:spPr>
          <a:xfrm>
            <a:off x="5076720" y="3860640"/>
            <a:ext cx="3456000" cy="19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116000" y="907920"/>
            <a:ext cx="720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Trener A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/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MENTOR </a:t>
            </a:r>
            <a:r>
              <a:rPr b="1" lang="sr-Latn-CS" sz="4000" spc="-1" strike="noStrike">
                <a:solidFill>
                  <a:srgbClr val="cc0000"/>
                </a:solidFill>
                <a:latin typeface="Arial"/>
              </a:rPr>
              <a:t>BOŠ 2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1989000"/>
            <a:ext cx="878544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DAJE PODRŠKU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TIMU u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IMPLEMENTACIJI PROGRAMA P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PODSTIČE AKCIJE I MANIFESTACIJE PO ŠKOLA KROZ PARTNERST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PODSTIČE UMREŽAVANJE KROZ PROMOTIVNE AKTIVNOSTI I POVEZIVANJE SA PARTNERIMA P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MENTORIŠE BOŠ 2 KROZ MENTORSKE SUSRETE I DRUGE VIDOVE RAZME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1532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entor BOŠ 2  razvija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partnerstv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o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9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 BOŠ 2  sa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9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BOŠ 1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i MOŠ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i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group mentoring"/>
          <p:cNvPicPr/>
          <p:nvPr/>
        </p:nvPicPr>
        <p:blipFill>
          <a:blip r:embed="rId2"/>
          <a:stretch/>
        </p:blipFill>
        <p:spPr>
          <a:xfrm>
            <a:off x="250920" y="1557360"/>
            <a:ext cx="1523880" cy="1197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group mentoring"/>
          <p:cNvPicPr/>
          <p:nvPr/>
        </p:nvPicPr>
        <p:blipFill>
          <a:blip r:embed="rId3"/>
          <a:stretch/>
        </p:blipFill>
        <p:spPr>
          <a:xfrm>
            <a:off x="179280" y="4508640"/>
            <a:ext cx="1371600" cy="1162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group mentoring"/>
          <p:cNvPicPr/>
          <p:nvPr/>
        </p:nvPicPr>
        <p:blipFill>
          <a:blip r:embed="rId4"/>
          <a:stretch/>
        </p:blipFill>
        <p:spPr>
          <a:xfrm>
            <a:off x="826920" y="2565360"/>
            <a:ext cx="1524240" cy="1104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group mentoring"/>
          <p:cNvPicPr/>
          <p:nvPr/>
        </p:nvPicPr>
        <p:blipFill>
          <a:blip r:embed="rId5"/>
          <a:stretch/>
        </p:blipFill>
        <p:spPr>
          <a:xfrm>
            <a:off x="7020000" y="1628640"/>
            <a:ext cx="1523880" cy="1197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group mentoring"/>
          <p:cNvPicPr/>
          <p:nvPr/>
        </p:nvPicPr>
        <p:blipFill>
          <a:blip r:embed="rId6"/>
          <a:stretch/>
        </p:blipFill>
        <p:spPr>
          <a:xfrm>
            <a:off x="7308720" y="4365720"/>
            <a:ext cx="1524240" cy="1317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group mentoring"/>
          <p:cNvPicPr/>
          <p:nvPr/>
        </p:nvPicPr>
        <p:blipFill>
          <a:blip r:embed="rId7"/>
          <a:stretch/>
        </p:blipFill>
        <p:spPr>
          <a:xfrm>
            <a:off x="7164360" y="2492280"/>
            <a:ext cx="1523880" cy="1257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340000" y="2133720"/>
            <a:ext cx="4968720" cy="838080"/>
          </a:xfrm>
          <a:prstGeom prst="leftRightArrow">
            <a:avLst>
              <a:gd name="adj1" fmla="val 50000"/>
              <a:gd name="adj2" fmla="val 1180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9759200">
            <a:off x="3058920" y="2060280"/>
            <a:ext cx="3560760" cy="838080"/>
          </a:xfrm>
          <a:prstGeom prst="leftRightArrow">
            <a:avLst>
              <a:gd name="adj1" fmla="val 50000"/>
              <a:gd name="adj2" fmla="val 845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760400">
            <a:off x="2987280" y="1989000"/>
            <a:ext cx="3527640" cy="838440"/>
          </a:xfrm>
          <a:prstGeom prst="leftRightArrow">
            <a:avLst>
              <a:gd name="adj1" fmla="val 50000"/>
              <a:gd name="adj2" fmla="val 837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group mentoring"/>
          <p:cNvPicPr/>
          <p:nvPr/>
        </p:nvPicPr>
        <p:blipFill>
          <a:blip r:embed="rId8"/>
          <a:stretch/>
        </p:blipFill>
        <p:spPr>
          <a:xfrm>
            <a:off x="4284720" y="2708280"/>
            <a:ext cx="1079280" cy="1297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67640" y="4149720"/>
            <a:ext cx="13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OŠ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i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1116000" y="3716280"/>
            <a:ext cx="934920" cy="863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0"/>
          <a:stretch/>
        </p:blipFill>
        <p:spPr>
          <a:xfrm>
            <a:off x="6732720" y="3573360"/>
            <a:ext cx="1031760" cy="792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79280" y="3429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BOŠ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812000" y="378936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BOŠ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96360" y="12891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Koordina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11280" y="907920"/>
            <a:ext cx="7705800" cy="189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i 2.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ENTORSKI SASTANA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UČESTVUJU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IMOVI BOŠ 2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mentor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podržava implementaciju 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/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promocija, radionice, vršnjački tim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gender,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umrežavanje, roditelji, partnerstvo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…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2924280"/>
            <a:ext cx="8713800" cy="120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3.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ENTORSKI SASTANAK: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UČESTVUJU    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KOORDINATORI 9 BOŠ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  i     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KOORDINATORI 9 BOŠ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/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realni susreti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dobra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praksa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girl’s day,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akcije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VT,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gućnost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BOŠ u MOŠ…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58920" y="4653000"/>
            <a:ext cx="69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ZAJEDNIČKA AKTIVNOST BOŠ/MOŠ TIMO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I VRŠNJAČKIH TIMOVA PO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na lokalu /plan partnerst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24000" y="90792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Trener B/ MENTOR  MOŠ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1484280"/>
            <a:ext cx="871380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DAJE PODRŠKU IMPLEMENTACIJI PROGRAMA P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PODSTIČE AKCIJE I MANIFESTACIJE MOŠ  KROZ PARTNERSTVO SA BO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UPUĆUJE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I OSNAŽUJE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TIM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ZA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ENTORSKE KOMPETENCI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PODSTIČE UMREŽAVANJE KROZ PROMOTIVNE AKTIVNOSTI I POVEZIVANJE SA PARTNERIMA P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MENTORIŠE MOŠ 2 KROZ MENTORSKE SUSRETE I DRUGE VIDOVE RAZMENE, ZAJEDNO SA MOŠ1</a:t>
            </a: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cc0000"/>
                </a:solidFill>
                <a:latin typeface="Arial"/>
              </a:rPr>
              <a:t>MENTOR  </a:t>
            </a: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mentoriše</a:t>
            </a:r>
            <a:r>
              <a:rPr b="1" lang="sr-Latn-CS" sz="4000" spc="-1" strike="noStrike">
                <a:solidFill>
                  <a:srgbClr val="cc0000"/>
                </a:solidFill>
                <a:latin typeface="Arial"/>
              </a:rPr>
              <a:t> MOŠ 2</a:t>
            </a:r>
            <a:br>
              <a:rPr sz="4000"/>
            </a:br>
            <a:r>
              <a:rPr b="1" lang="sr-Latn-CS" sz="4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zajedno sa</a:t>
            </a:r>
            <a:r>
              <a:rPr b="1" lang="sr-Latn-CS" sz="4000" spc="-1" strike="noStrike">
                <a:solidFill>
                  <a:srgbClr val="cc0000"/>
                </a:solidFill>
                <a:latin typeface="Arial"/>
              </a:rPr>
              <a:t> MOŠ 1</a:t>
            </a: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group mentoring"/>
          <p:cNvPicPr/>
          <p:nvPr/>
        </p:nvPicPr>
        <p:blipFill>
          <a:blip r:embed="rId2"/>
          <a:stretch/>
        </p:blipFill>
        <p:spPr>
          <a:xfrm>
            <a:off x="179280" y="1916280"/>
            <a:ext cx="2808360" cy="1990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group mentoring"/>
          <p:cNvPicPr/>
          <p:nvPr/>
        </p:nvPicPr>
        <p:blipFill>
          <a:blip r:embed="rId3"/>
          <a:stretch/>
        </p:blipFill>
        <p:spPr>
          <a:xfrm>
            <a:off x="6156360" y="2205000"/>
            <a:ext cx="2592360" cy="21747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50920" y="3933720"/>
            <a:ext cx="87138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Š 1 tim  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SARADJUJE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 sa mentorom MOŠ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TIM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Š 1 ima plan mentorstva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sa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Š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entor  MOŠ 2 podstiče povezivanje 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v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ršnjačkih  timova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za PO</a:t>
            </a:r>
            <a:r>
              <a:rPr b="1" lang="sr-Latn-CS" sz="18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i građenje partnerskih  odnosa sa BO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entor  MOŠ 2 podstiče umrežavanje sa PO partner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32000" y="2708280"/>
            <a:ext cx="2667240" cy="838080"/>
          </a:xfrm>
          <a:prstGeom prst="leftRightArrow">
            <a:avLst>
              <a:gd name="adj1" fmla="val 50000"/>
              <a:gd name="adj2" fmla="val 633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1116000" y="1413000"/>
            <a:ext cx="792000" cy="649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7020000" y="1700280"/>
            <a:ext cx="863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11280" y="907920"/>
            <a:ext cx="7705800" cy="189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i 2.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ENTORSKI SASTANA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UČESTVUJE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IM MOŠ 2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mentor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podržava implementaciju 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/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promocija, radionice, vršnjački tim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gender,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umrežavanje, roditelji, partnerstvo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sa BOŠ 2, specijalizacija …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2924280"/>
            <a:ext cx="8713800" cy="120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3.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ENTORSKI SASTANAK: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UČESTVUJU    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IMOVI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M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OŠ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i  M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OŠ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/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realni susreti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dobra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praksa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girl’s day,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akcije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VT…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42920" y="4653000"/>
            <a:ext cx="69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MOŠ 1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entoriše, podržava i prenosi iskustvo MOŠ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da postanu faktor održivosti I razvoja PO na loka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VT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osposobljen za vršnjačku edukacij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-3160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rcRect l="8094" t="0" r="11099" b="0"/>
          <a:stretch/>
        </p:blipFill>
        <p:spPr>
          <a:xfrm>
            <a:off x="0" y="836640"/>
            <a:ext cx="5040360" cy="46782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rcRect l="6260" t="8310" r="0" b="14963"/>
          <a:stretch/>
        </p:blipFill>
        <p:spPr>
          <a:xfrm>
            <a:off x="4824360" y="476280"/>
            <a:ext cx="4319640" cy="26510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427640" y="4365720"/>
            <a:ext cx="3889440" cy="11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PO UMREŽAVANJE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2T00:52:49Z</dcterms:created>
  <dc:creator>vali</dc:creator>
  <dc:description/>
  <dc:language>en-US</dc:language>
  <cp:lastModifiedBy>WINDOWS XP</cp:lastModifiedBy>
  <dcterms:modified xsi:type="dcterms:W3CDTF">2012-02-05T11:30:27Z</dcterms:modified>
  <cp:revision>31</cp:revision>
  <dc:subject/>
  <dc:title>Slide 1</dc:title>
</cp:coreProperties>
</file>