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4DE3-4040-4E31-9E24-90E6366BF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B22C-4722-4F0B-A9B5-EF4BB766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B9B0-06B9-45EF-9B36-0339439F7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2D4C-1D51-4A8D-B0E8-324B9D058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17B7-965F-4F67-95E7-BEB03471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A851-BDCE-49C7-8633-D507E243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CF0B-4397-41F6-87F3-D13E4694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3F91-1868-4BDC-806A-FA4EBAED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F8D7-34A5-4C5A-BA8A-CE3C462C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A515-4081-4580-A876-CCAD976C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2704-A0AC-4312-BF6D-B642A450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787D-E772-44AB-B22B-964ECAA4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80C4-BD6C-406C-8098-5FE8FD249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Z projekat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ionalna orijentacij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prelazu u srednju škol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1447920" y="2209680"/>
            <a:ext cx="6400800" cy="26672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GI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НА ПРЕЛА</a:t>
            </a:r>
            <a:r>
              <a:rPr b="1" lang="sr-RS" sz="1800" spc="-1" strike="noStrike">
                <a:solidFill>
                  <a:srgbClr val="cc0000"/>
                </a:solidFill>
                <a:latin typeface="Arial"/>
              </a:rPr>
              <a:t>СК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РЕАЛНИ СУСРЕ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863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4495680" y="990720"/>
            <a:ext cx="426744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ЕАЛНИ СУСР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152280" y="2209680"/>
            <a:ext cx="876312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ДОБИ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Активно и искуствено уче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Допуњавање и упоређивање стечених теоријс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знања о свету рада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 и заним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Суочавање са информацијама допринос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формирању коначне одлу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863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4495680" y="990720"/>
            <a:ext cx="426744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ЕАЛНИ СУСР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04920" y="1371600"/>
            <a:ext cx="845820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ДИРЕКТНИ СУСРЕТИ СА СВЕТОМ РА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Распитивања у предузећ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Ис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пробавањ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е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праксе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у предузећ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     </a:t>
            </a: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УСРЕТИ ИЗ ОБЛАСТИ ОБРАЗОВАЊ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Ис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пробавањ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е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праксе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у шко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УСРЕТИ СА РЕЛАВАНТНИМ ИНСТИТУЦИЈА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Н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ационална служба за запошљавање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Ц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ентри за информисање,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прив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ИНФОРМАТИВНЕ МАНИФЕСТАЦИ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Сајам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образовања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и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Сајам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занимањ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а и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кариј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Дани информисања о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средњим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школама –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Д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ан отворених 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Сусрети са експертима у настави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0" y="304920"/>
            <a:ext cx="8381880" cy="62863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4114800" y="1066680"/>
            <a:ext cx="426708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ЕАЛНИ СУСР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371600"/>
          <a:ext cx="8229600" cy="4191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Rectangle 17"/>
          <p:cNvSpPr/>
          <p:nvPr/>
        </p:nvSpPr>
        <p:spPr>
          <a:xfrm>
            <a:off x="533520" y="1676520"/>
            <a:ext cx="3968640" cy="348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РАСПИТИВАЊЕ</a:t>
            </a:r>
            <a:r>
              <a:rPr b="1" lang="sr-CS" sz="2000" spc="-1" strike="noStrike">
                <a:solidFill>
                  <a:srgbClr val="1107d7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ОРГАНИЗАЦИЈИ, ПРЕДУЗЕЋ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ШКО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према за разгово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рв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бијање конкретн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датака за посматр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купљање информ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нзивна, структурис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флекс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4648320" y="1600200"/>
            <a:ext cx="4064040" cy="37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ИСПРОБАВАЊЕ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РАКС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ОРГАНИЗАЦИЈ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ПРЕДУЗЕЋ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ШК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према за учествовање 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мом процесу 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рада “правила игре” 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ални сусрет (радни ста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ме понашања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тензивна, структурис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флекс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поређивање да ли стеч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куства одговарају првобитн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чекивањ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863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3429000" y="1066680"/>
            <a:ext cx="53341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c0000"/>
                </a:solidFill>
                <a:latin typeface="Arial"/>
              </a:rPr>
              <a:t>Посебан изазов</a:t>
            </a:r>
            <a:r>
              <a:rPr b="0" lang="sr-Latn-CS" sz="1800" spc="-1" strike="noStrike">
                <a:solidFill>
                  <a:srgbClr val="cc0000"/>
                </a:solidFill>
                <a:latin typeface="Arial"/>
              </a:rPr>
              <a:t>: </a:t>
            </a:r>
            <a:r>
              <a:rPr b="0" lang="sr-CS" sz="1800" spc="-1" strike="noStrike">
                <a:solidFill>
                  <a:srgbClr val="cc0000"/>
                </a:solidFill>
                <a:latin typeface="Arial"/>
              </a:rPr>
              <a:t>испробавање прак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962520" y="1600200"/>
            <a:ext cx="502920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одизање свести о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начају испробавања праксе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одршка законској регулативи за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Сарадња релевантних институц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Отвореност школе и привре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рипрема ученика/ц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школе за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Веза са циљевима, исходима, стандардим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курикулум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роцедуре и правила за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Остваривање реалних сусрета кроз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Сарадња са родитељи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Научене лекције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унапређивање области реалних суср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Искуство из пилота потврђује: мисија је могућ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Добити на свим нивои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Успостављање системске подрш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P1019204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152280" y="1066680"/>
            <a:ext cx="1600200" cy="1067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P1017108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228600" y="2209680"/>
            <a:ext cx="1600200" cy="1054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P1019192"/>
          <p:cNvPicPr/>
          <p:nvPr/>
        </p:nvPicPr>
        <p:blipFill>
          <a:blip r:embed="rId4">
            <a:lum bright="18000"/>
          </a:blip>
          <a:stretch/>
        </p:blipFill>
        <p:spPr>
          <a:xfrm>
            <a:off x="152280" y="3352680"/>
            <a:ext cx="1600200" cy="1003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veterinar"/>
          <p:cNvPicPr/>
          <p:nvPr/>
        </p:nvPicPr>
        <p:blipFill>
          <a:blip r:embed="rId5">
            <a:lum bright="24000"/>
          </a:blip>
          <a:stretch/>
        </p:blipFill>
        <p:spPr>
          <a:xfrm>
            <a:off x="2057400" y="1676520"/>
            <a:ext cx="1600200" cy="1404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vrtic 1"/>
          <p:cNvPicPr/>
          <p:nvPr/>
        </p:nvPicPr>
        <p:blipFill>
          <a:blip r:embed="rId6"/>
          <a:stretch/>
        </p:blipFill>
        <p:spPr>
          <a:xfrm>
            <a:off x="2057400" y="3276720"/>
            <a:ext cx="1641600" cy="1676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P1019182"/>
          <p:cNvPicPr/>
          <p:nvPr/>
        </p:nvPicPr>
        <p:blipFill>
          <a:blip r:embed="rId7">
            <a:lum bright="12000"/>
          </a:blip>
          <a:stretch/>
        </p:blipFill>
        <p:spPr>
          <a:xfrm>
            <a:off x="228600" y="4419720"/>
            <a:ext cx="144792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WINDOWS XP</cp:lastModifiedBy>
  <dcterms:modified xsi:type="dcterms:W3CDTF">2012-02-07T12:02:10Z</dcterms:modified>
  <cp:revision>1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