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798A-4946-4287-9E7B-87BFF9BBD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40B3-AD45-42D7-AE64-0530AF46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7A0D-0DAA-4B4A-A947-B17871247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8A78-7450-44B8-8298-400D908E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FBDE-671C-460F-9DF4-9FEF9FCB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981F-E37F-4E42-9D65-3FDE1735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70C3-6538-4850-ACF3-7D7A6F06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48EB-3E45-4278-ACCF-76489F9E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C1EA-608B-478D-AB6E-32C9E2AA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E8BB-ACD4-4496-BD18-15979A3B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9EDB-EB4E-4E85-805D-34EC7677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8B88-360E-4161-BD66-93E89308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40A4-BD74-4FC4-8E04-7ABC7DF8F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1620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197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СК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1880" y="2924280"/>
            <a:ext cx="69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КОРАЦИ И </a:t>
            </a: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АКТИВНОСТИ ТИМА ЗА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24240" y="1406520"/>
            <a:ext cx="662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в)УНОШЕЊЕ ПРОГРАМА У ШКОЛСКА ДОКУ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84960" y="1989000"/>
            <a:ext cx="6994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ограм ПО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саставни део Годишњег плана  рада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анекс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Школског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програма за 7. и 8. раз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оже да буде део Школског развојног пл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д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ео самовредновања и екстерног вредновања рада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354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27640" y="1293840"/>
            <a:ext cx="80870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МЕНТОРСКИ САСТАНЦИ </a:t>
            </a: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као под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шка школама по :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А)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ЕДОВНИ КОНТАКТ СА ТРЕНЕРОМ/МЕНТОРОМ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БОШ 2/МОШ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Б)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3 МЕНТОРСКА САСТАНКА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СА КООРДИНАТОРОМ И ТИМ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БОШ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1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/МОШ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20360" y="3213000"/>
            <a:ext cx="26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24000" y="3573360"/>
            <a:ext cx="496908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ПОДРШКА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МЕНТОРА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- ИМПЛЕМЕНТАЦИЈИ ПРОГРАМА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- ПАРТНЕРСКИМ И МЕНТОРСКИМ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ОДНОС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- УМРЕЖАВАЊУ СА  ПО ПАРТНЕРИМА</a:t>
            </a: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61620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1197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СК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81000" y="2349360"/>
            <a:ext cx="6799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КОРАЦИ ПО НАКОН БАЗИЧНЕ ОБУ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0000"/>
                </a:solidFill>
                <a:latin typeface="Arial"/>
              </a:rPr>
              <a:t>За МОШ ТИМОВЕ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-имплементација Прогр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-јачање мреже 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5157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8244000" cy="6354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258920" y="1557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98100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ДОДАТНА ОБУКА КРОЗ 3 МОДУЛА ЗА МОШ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428120"/>
            <a:ext cx="831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Обуке за петочлане тимове МОШ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кредитоване од стране ЗУОВ/МПН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1.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(ПО)-Оснаживање младих кроз самоспозна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аталошки број 647-Модул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и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0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201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у РЦ Ниш,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Ц  Сме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(ПО) - оснаживање младих   информисањем о занимањима, каријери и путевима образов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аталошки број 646-Модул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 11. 03.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у РЦ Ниш,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Ц Сме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3.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(ПО) - оснаживање младих за одлуку о занимању и школовању у сусрету са светом 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аталошки број 645-Модул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31.03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и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01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04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201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у РЦ Ниш,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Ц Сме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258920" y="1557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31640" y="1557360"/>
            <a:ext cx="54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ПАРТНЕРСТВО/МЕНТОРСТВО  И МРЕЖ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42000" y="2008080"/>
            <a:ext cx="704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9 БОШ2 су у партнерском односу са 9 БОШ1 из првог к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обуке, са којима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се срећу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на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трећем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менторском саста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9 БОШ1 и 9БОШ 2 је у партнерском односу између себ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са МОШ1 и МОШ 2  у својој сред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МОШ 1   је у менторском односу са МОШ 2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ипрема МОШ 2 за менторство МОШ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7960" y="4941720"/>
            <a:ext cx="81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ВИ ОВИ ОДНОСИ ЗАЈЕДНО ЧИНЕ ПО  МРЕЖУ УЗАЈАМНЕ ПОДРШ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61620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1341360"/>
            <a:ext cx="66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0000"/>
                </a:solidFill>
                <a:latin typeface="Arial"/>
              </a:rPr>
              <a:t>МОШ ТИМОВИ: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5157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2492280"/>
            <a:ext cx="5832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АЗВИЈАЈУ ОБЛАСТ СПЕЦИЈАЛИЗАЦИЈЕ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-ГРАДЕ ПРИМЕРЕ ДОБРЕ ПРАКСЕ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-ПОДРЖАВАЈУ БОШ НА ПУТУ ДО М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69920"/>
            <a:ext cx="9144000" cy="6688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0920" y="1341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7451640" cy="5589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 rot="5400000">
            <a:off x="6192360" y="2817720"/>
            <a:ext cx="4464360" cy="1079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СРЕЋН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0920" y="11970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Пред одлуком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ОСТАТИ Б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Ш?  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ОСТАТИ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МОШ?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2637000"/>
            <a:ext cx="789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9 ОШ ПОСТАЈУ БАЗИЧНЕ – БО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 ОШ постаје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МЕНТОРСК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 – М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ЕНТОРСКИ СТАТУС СЕ ОСВАЈ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КВАЛИТЕТОМ ИМПЛЕМЕНТАЦИЈЕ И РАЗВОЈА П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О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КАКО ПОСТАТИ</a:t>
            </a:r>
            <a:br>
              <a:rPr sz="2400"/>
            </a:b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МЕНТОРСКА ШКОЛА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22960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ТИМ ПРОЦЕНИ СЕБЕ И ШКОЛУ  КАО ПОТЕНЦИЈАЛ ЗА М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ПОПУНИ  ОДГОВАРАЈУЋИ  ОБРАЗАЦ ЗА ОСВАЈАЊЕ СТАТУСА М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ОДЛУКУ ЗА МОШ ДОНОСЕ НА ОСНОВУ ПРОПИСАНИХ КРИТЕРИЈУМА ТРЕНЕРИ, КООРДИНАТОР РЦ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/ЦСУ/ЦКОО</a:t>
            </a: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  и </a:t>
            </a: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GIZ BOSS</a:t>
            </a: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 ПРОЈЕКТНИ Т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ТРОЧЛАНИ ПО ТИМ СЕ ПРОШИРУЈЕ У МОШ ЗА ЈОШ 2 ЧЛАНА и ПОХАЂА ОБУКУ ЗА МОДУЛЕ 1,2,3 И МЕНТОРСТВ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08200" y="1335240"/>
            <a:ext cx="793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АКТИВНОСТИ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ШКОЛСК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Г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ТИМ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ЗА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АКОН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БАЗИЧНЕ ОБ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0840" y="2997360"/>
            <a:ext cx="85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ПРОВОДИ АНКЕТУ УЧЕНИКА ЗА  УКЉУЧЕЊЕ  У ПРОГРАМ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ПРИБАВЉА САГЛАСНОСТ РОДИТЕЉА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за учешће ученика/ца у програ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ФОРМИРА ГРУПЕ УЧЕНИКА И ДОВРШАВА ПЛАН ИМПЛЕМЕНТАЦИЈЕ</a:t>
            </a:r>
            <a:r>
              <a:rPr b="0" lang="sr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41480" y="1413000"/>
            <a:ext cx="489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ФОРМИРАЊЕ ГРУПА УЧЕНИКА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ИЗРАДА ПЛАНА ИМПЛЕМЕНТАЦИ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2781360"/>
            <a:ext cx="84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БОШ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:формира најмање ЈЕДНУ  груп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огу да  је чине ученици 8. разреда или 7. разре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оже да буде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и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ешовита гру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МОШ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:  обухвата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п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ограмом ПО  најмање  51% ученика 7. и 8. раз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БОШ/МОШ 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груп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е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 од 15-25 уче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964720" cy="6524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49480" y="1052640"/>
            <a:ext cx="78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АНКЕТИРАЊЕ УЧЕНИКА ЗА  УКЉУЧИВАЊЕ  У ПРОГРАМ 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413000"/>
            <a:ext cx="7777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И САГЛАСНОСТ РОДИТЕ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лог за сагласност родитељ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2205000"/>
            <a:ext cx="8569440" cy="3529080"/>
          </a:xfrm>
          <a:prstGeom prst="foldedCorner">
            <a:avLst>
              <a:gd name="adj" fmla="val 12500"/>
            </a:avLst>
          </a:prstGeom>
          <a:solidFill>
            <a:srgbClr val="cfc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ШТОВАНИ РОДИТЕЉУ/СТАРАТЕЉУ УЧЕНИ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,......раз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дост нам је да вашем  детету понудимо да  учествује у Програ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ПН и ГИЗ БОСС: ”Професионална оријентација на преласку у средњ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колу” и тако упозна своје склоности и интересовања у односу 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удућу школу/занимање, као и богатство света рада и занимања ка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жу школа , како би што самосталније могло да донесе одлуку  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бору своје будуће школе/занимањ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ојим потписом, потврђујете своју сагласност:............................................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тум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сто: ………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08200" y="1335240"/>
            <a:ext cx="7931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4160" y="2924280"/>
            <a:ext cx="7425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АРА ПОДЕЛУ ПОСЛОВА УНУТАР ШКОЛСКОГ Т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ЕЗЕНТУЈЕ ПРОГРАМ ПО ШКОЛСКИМ ОРГАНИМА И ТЕЛ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НОСИ ПРОГРАМ ПО У ШКОЛСКА ДОКУМЕНТА КАО АНЕ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08200" y="1335240"/>
            <a:ext cx="793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АКТИВНОСТИ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ШКОЛСК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Г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ТИМ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ЗА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АКОН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БАЗИЧНЕ ОБ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68360" y="12682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а)ПОДЕЛА ПОСЛОВА УНУТАР ШКОЛСКОГ Т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1989000"/>
            <a:ext cx="8785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ко је </a:t>
            </a:r>
            <a:r>
              <a:rPr b="1" lang="sr-CS" sz="1800" spc="-1" strike="noStrike" u="sng">
                <a:solidFill>
                  <a:srgbClr val="808080"/>
                </a:solidFill>
                <a:uFillTx/>
                <a:latin typeface="Arial"/>
              </a:rPr>
              <a:t>координатор школског тима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за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ко и како реализује</a:t>
            </a:r>
            <a:r>
              <a:rPr b="1" lang="sr-CS" sz="1800" spc="-1" strike="noStrike" u="sng">
                <a:solidFill>
                  <a:srgbClr val="808080"/>
                </a:solidFill>
                <a:uFillTx/>
                <a:latin typeface="Arial"/>
              </a:rPr>
              <a:t> презентацију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програма ПО родитељима ученика и ученицима 7. и 8. раз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ангажовањ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е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на анкетирању уче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израд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а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анекса за школску документац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ИЗРАДА ПЛАНА ИМПЛЕМЕНТАЦИЈЕ ПРОГРАМА СА ДЕЦ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АЗВИЈАЊЕ ПАРТНЕРСТВА/МЕНТОРСТВА СА ПО ШКОЛАМА НА ЛОКАЛ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0960" y="1773360"/>
            <a:ext cx="85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б)ПРЕЗЕНТАЦИЈА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ПРОГРАМА ШКОЛСКИМ ОРГАНИМА И ТЕ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8640" y="2421000"/>
            <a:ext cx="82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Начин презентације програма договара школски т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Програм се  представља  Наставничком већу, Школском одбор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ченичком парламенту, Савету родитељ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и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верификује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се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као Анек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Циљ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: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информисање свих релевантних  актера о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активностима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програм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 школи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и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очекиваним исход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08:13:13Z</dcterms:created>
  <dc:creator>vali</dc:creator>
  <dc:description/>
  <dc:language>en-US</dc:language>
  <cp:lastModifiedBy>WINDOWS XP</cp:lastModifiedBy>
  <dcterms:modified xsi:type="dcterms:W3CDTF">2012-02-05T12:02:50Z</dcterms:modified>
  <cp:revision>46</cp:revision>
  <dc:subject/>
  <dc:title>Slide 1</dc:title>
</cp:coreProperties>
</file>