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AFE35-0A46-4FF2-BCD6-9A7BA6FC9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300DE-E6F0-45B6-8555-F03CAEDB8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30763-E693-463D-8811-AE118F1DD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2AA9E-2CDA-431D-AD49-705442AE0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FDA31-C762-4A68-8480-F0780B16D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A567A-851D-4A16-83B1-909583DB9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25F1B-AB5E-456C-937C-29DF34845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5DEA2-9E2E-4539-A8A8-A5C28575D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95946-5510-4C7F-B199-707B2BDE4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49C22-0CCD-4E75-886C-71A2CE404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9F7F6-52A4-4769-A09E-53B99312B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8CB5C-6497-4D05-A297-5D1849566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C0347-5B88-4E4C-A975-E2F715AC12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457200" y="96840"/>
            <a:ext cx="8291520" cy="65912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85800" y="1066680"/>
            <a:ext cx="7772400" cy="25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Arial"/>
              </a:rPr>
              <a:t>GIZ</a:t>
            </a:r>
            <a:br>
              <a:rPr sz="4400"/>
            </a:br>
            <a:r>
              <a:rPr b="1" lang="sr-Latn-CS" sz="4400" spc="-1" strike="noStrike">
                <a:solidFill>
                  <a:srgbClr val="a50021"/>
                </a:solidFill>
                <a:latin typeface="Arial"/>
              </a:rPr>
              <a:t>Profesionalna orijentacija na prelasku u srednju škol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71600" y="4419720"/>
            <a:ext cx="6400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Modeli implementacije programa profesionalne orijentaci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57200" y="96840"/>
            <a:ext cx="8291520" cy="65912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50021"/>
                </a:solidFill>
                <a:latin typeface="Arial"/>
              </a:rPr>
              <a:t>Modeli implementacij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000000"/>
                </a:solidFill>
                <a:latin typeface="Arial"/>
              </a:rPr>
              <a:t>Krukulum: 7. i 8. razred – nastava profesionalne orijentaci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000000"/>
                </a:solidFill>
                <a:latin typeface="Arial"/>
              </a:rPr>
              <a:t>Interdisciplinarno/kroskurikularno – integrisana u nastavne predme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000000"/>
                </a:solidFill>
                <a:latin typeface="Arial"/>
              </a:rPr>
              <a:t>PO u okviru projek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57200" y="96840"/>
            <a:ext cx="8291520" cy="65912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a50021"/>
                </a:solidFill>
                <a:latin typeface="Arial"/>
              </a:rPr>
              <a:t>Kurikulu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3352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Samostalan predmet se više cen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PO u toku godine sa jednim časom nedeljno omogućava primenu petofaznog model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Unapredjuje se I razvija lična, predmetna I metodička kompetencij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Učenici doživljavaju aktivnu nastav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Otvoreni vidovi učenj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Obezbedjena primena vežbi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Ključne kompetencije se prenose na efikasan nač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Snažnije otvaranje škole prema spoljnjem svetu – realni susret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Mogućnost organizacije realnih susre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Transparentnost o zbivanjima u nastavi za roditelje/staratelj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Manje posla oko koordinacij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Roditelji/staratelji prepoznaju dobit za decu kroz pripremu za buduće zanimanje I školovanj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Procesno praćenj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57200" y="96840"/>
            <a:ext cx="8291520" cy="659124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838080"/>
            <a:ext cx="8686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000" spc="-1" strike="noStrike">
                <a:solidFill>
                  <a:srgbClr val="a50021"/>
                </a:solidFill>
                <a:latin typeface="Arial"/>
              </a:rPr>
              <a:t>Interdisciplinarno/kroskurikularno – integrisana u nastavne predme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514600"/>
            <a:ext cx="8229600" cy="36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04920" y="1219320"/>
            <a:ext cx="8458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U </a:t>
            </a:r>
            <a:r>
              <a:rPr b="0" lang="sr-CS" sz="2000" spc="-1" strike="noStrike">
                <a:solidFill>
                  <a:srgbClr val="a50021"/>
                </a:solidFill>
                <a:latin typeface="Arial"/>
              </a:rPr>
              <a:t>7. 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i</a:t>
            </a:r>
            <a:r>
              <a:rPr b="0" lang="sr-CS" sz="2000" spc="-1" strike="noStrike">
                <a:solidFill>
                  <a:srgbClr val="a50021"/>
                </a:solidFill>
                <a:latin typeface="Arial"/>
              </a:rPr>
              <a:t> 8. </a:t>
            </a:r>
            <a:r>
              <a:rPr b="0" lang="sr-Latn-CS" sz="2000" spc="-1" strike="noStrike">
                <a:solidFill>
                  <a:srgbClr val="a50021"/>
                </a:solidFill>
                <a:latin typeface="Arial"/>
              </a:rPr>
              <a:t>razredu integriše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 se </a:t>
            </a:r>
            <a:r>
              <a:rPr b="0" lang="sr-Latn-CS" sz="2000" spc="-1" strike="noStrike">
                <a:solidFill>
                  <a:srgbClr val="a50021"/>
                </a:solidFill>
                <a:latin typeface="Arial"/>
              </a:rPr>
              <a:t>sa</a:t>
            </a:r>
            <a:r>
              <a:rPr b="0" lang="sr-CS" sz="2000" spc="-1" strike="noStrike">
                <a:solidFill>
                  <a:srgbClr val="a50021"/>
                </a:solidFill>
                <a:latin typeface="Arial"/>
              </a:rPr>
              <a:t> 30 </a:t>
            </a:r>
            <a:r>
              <a:rPr b="0" lang="sr-Latn-CS" sz="2000" spc="-1" strike="noStrike">
                <a:solidFill>
                  <a:srgbClr val="a50021"/>
                </a:solidFill>
                <a:latin typeface="Arial"/>
              </a:rPr>
              <a:t>časova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 PO u </a:t>
            </a:r>
            <a:r>
              <a:rPr b="0" lang="sr-Latn-CS" sz="2000" spc="-1" strike="noStrike">
                <a:solidFill>
                  <a:srgbClr val="a50021"/>
                </a:solidFill>
                <a:latin typeface="Arial"/>
              </a:rPr>
              <a:t>predmete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 I </a:t>
            </a:r>
            <a:r>
              <a:rPr b="0" lang="sr-Latn-CS" sz="2000" spc="-1" strike="noStrike">
                <a:solidFill>
                  <a:srgbClr val="a50021"/>
                </a:solidFill>
                <a:latin typeface="Arial"/>
              </a:rPr>
              <a:t>predaje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 se </a:t>
            </a:r>
            <a:r>
              <a:rPr b="0" lang="sr-Latn-CS" sz="2000" spc="-1" strike="noStrike">
                <a:solidFill>
                  <a:srgbClr val="a50021"/>
                </a:solidFill>
                <a:latin typeface="Arial"/>
              </a:rPr>
              <a:t>interdisciplinar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a50021"/>
                </a:solidFill>
                <a:latin typeface="Arial"/>
              </a:rPr>
              <a:t>Odlike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Manje prepoznavanje značaja PO za nastavnike, roditelje/staratelje I eksterne školske partn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Više posla oko koordinaci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Manja orijentisanost prema nastavnom pla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Otežana realizacija petofaznog modela u prak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Nedostatak kontinuiteta za razvoj kompetencije orijentaci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Nedovoljno vežbi sa primenom različitih meto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Teže otvaranje škole iz organizacionih razlo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Manja mogućnost za sprovodjenje realnih susre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Nedostatak transparentnosti za roditelje/staratel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Dodatni časovi za ostvarivanje realnih susre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57200" y="96840"/>
            <a:ext cx="8291520" cy="659124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4000" spc="-1" strike="noStrike">
                <a:solidFill>
                  <a:srgbClr val="a50021"/>
                </a:solidFill>
                <a:latin typeface="Arial"/>
              </a:rPr>
              <a:t>PO u okviru projek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220968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Manje se opaža značaj PO kao doprinos životnoj orijentacij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otrebno je još termina od jednog ( školska godina ) za projek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rimena petofazng modela može duže da tra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Kompetencija orijentacije može da se razvija I unapredjuj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rimena otvorenih vidova učenja postoji ali nedostaje kontinuit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Otvaranje škole prema spolja zavisi od strukture projek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Veći poslovi koordinaci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Dodatni časovi za realne susrete u 7. I 8. razred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Realno ostvarljivo u praksi - potvrdjuje iskustvo iz pilot projekt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57200" y="96840"/>
            <a:ext cx="8291520" cy="659124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81536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sr-Latn-CS" sz="2000" spc="-1" strike="noStrike">
                <a:solidFill>
                  <a:srgbClr val="a50021"/>
                </a:solidFill>
                <a:latin typeface="Arial"/>
              </a:rPr>
              <a:t>Koordinator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 P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0" y="1143000"/>
          <a:ext cx="9144000" cy="5715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143000"/>
                    <a:ext cx="914400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8291520" cy="659124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81536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sr-Latn-CS" sz="2000" spc="-1" strike="noStrike">
                <a:solidFill>
                  <a:srgbClr val="a50021"/>
                </a:solidFill>
                <a:latin typeface="Arial"/>
              </a:rPr>
              <a:t>Kompetencije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 k</a:t>
            </a:r>
            <a:r>
              <a:rPr b="0" lang="sr-Latn-CS" sz="2000" spc="-1" strike="noStrike">
                <a:solidFill>
                  <a:srgbClr val="a50021"/>
                </a:solidFill>
                <a:latin typeface="Arial"/>
              </a:rPr>
              <a:t>oordinator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a P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304920" y="1143000"/>
          <a:ext cx="8610480" cy="5715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1143000"/>
                    <a:ext cx="861048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457200" y="96840"/>
            <a:ext cx="8291520" cy="659124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50021"/>
                </a:solidFill>
                <a:latin typeface="Arial"/>
              </a:rPr>
              <a:t>Mala </a:t>
            </a:r>
            <a:r>
              <a:rPr b="0" lang="sr-Latn-CS" sz="4000" spc="-1" strike="noStrike">
                <a:solidFill>
                  <a:srgbClr val="a50021"/>
                </a:solidFill>
                <a:latin typeface="Arial"/>
              </a:rPr>
              <a:t>pomoć prijatelja</a:t>
            </a:r>
            <a:r>
              <a:rPr b="0" lang="en-US" sz="4000" spc="-1" strike="noStrike">
                <a:solidFill>
                  <a:srgbClr val="a50021"/>
                </a:solidFill>
                <a:latin typeface="Arial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3352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04920" y="2438280"/>
            <a:ext cx="822960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Fakultativni predm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rojekat P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Časovi odeljenjske zajednice za učenike/ce 7. I 8. razre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Realizacija kroz mod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Časovi slobodnih vannastavnih aktivnosti učeni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57200" y="96840"/>
            <a:ext cx="8291520" cy="659124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a50021"/>
                </a:solidFill>
                <a:latin typeface="Arial"/>
              </a:rPr>
              <a:t>Vaš predlog</a:t>
            </a:r>
            <a:r>
              <a:rPr b="0" lang="en-US" sz="4000" spc="-1" strike="noStrike">
                <a:solidFill>
                  <a:srgbClr val="a50021"/>
                </a:solidFill>
                <a:latin typeface="Arial"/>
              </a:rPr>
              <a:t> je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3352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ina</dc:creator>
  <dc:description/>
  <dc:language>en-US</dc:language>
  <cp:lastModifiedBy>WINDOWS XP</cp:lastModifiedBy>
  <dcterms:modified xsi:type="dcterms:W3CDTF">2011-10-04T13:20:40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