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FB89-9B37-471F-AF1F-EE163224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BFED-4043-4136-9894-10A83A6E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A651-ADE7-4E1E-80EF-23C0CF9B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28C0-8F9B-4D3C-BDD8-F7CF47AC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9F27-6C80-4CAC-84A5-BCA51C57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C928-5591-445F-8B1B-5351E94D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5600-F7A6-4547-B0AF-E5D82224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749C-6792-4B85-B229-7EB85414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A9C7-2CBF-4603-8A6B-BFD66CD0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5A58-C263-41AE-803C-3257924E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1E8F-990A-42F9-BF9B-D4F42C32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7352-3909-4FF9-A6D2-9CFF9832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4472-EC5E-4842-8C91-BD65A5F24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cc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Profesional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orijentacija na prelasku u srednju školu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-Drugi krug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ob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16000" y="90792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A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 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BOŠ 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989000"/>
            <a:ext cx="87854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IMU u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PO ŠKOLA KROZ PARTNERS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BOŠ 2 KROZ MENTORSKE SUSRETE I DRUGE VIDOVE RAZM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 BOŠ 2  razvija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partnerstv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BOŠ 2  sa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roup mentoring"/>
          <p:cNvPicPr/>
          <p:nvPr/>
        </p:nvPicPr>
        <p:blipFill>
          <a:blip r:embed="rId2"/>
          <a:stretch/>
        </p:blipFill>
        <p:spPr>
          <a:xfrm>
            <a:off x="250920" y="155736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group mentoring"/>
          <p:cNvPicPr/>
          <p:nvPr/>
        </p:nvPicPr>
        <p:blipFill>
          <a:blip r:embed="rId3"/>
          <a:stretch/>
        </p:blipFill>
        <p:spPr>
          <a:xfrm>
            <a:off x="179280" y="4508640"/>
            <a:ext cx="1371600" cy="1162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group mentoring"/>
          <p:cNvPicPr/>
          <p:nvPr/>
        </p:nvPicPr>
        <p:blipFill>
          <a:blip r:embed="rId4"/>
          <a:stretch/>
        </p:blipFill>
        <p:spPr>
          <a:xfrm>
            <a:off x="826920" y="2565360"/>
            <a:ext cx="1524240" cy="1104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group mentoring"/>
          <p:cNvPicPr/>
          <p:nvPr/>
        </p:nvPicPr>
        <p:blipFill>
          <a:blip r:embed="rId5"/>
          <a:stretch/>
        </p:blipFill>
        <p:spPr>
          <a:xfrm>
            <a:off x="7020000" y="162864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6"/>
          <a:stretch/>
        </p:blipFill>
        <p:spPr>
          <a:xfrm>
            <a:off x="7308720" y="4365720"/>
            <a:ext cx="1524240" cy="131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7"/>
          <a:stretch/>
        </p:blipFill>
        <p:spPr>
          <a:xfrm>
            <a:off x="7164360" y="2492280"/>
            <a:ext cx="1523880" cy="1257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40000" y="2133720"/>
            <a:ext cx="4968720" cy="838080"/>
          </a:xfrm>
          <a:prstGeom prst="leftRightArrow">
            <a:avLst>
              <a:gd name="adj1" fmla="val 50000"/>
              <a:gd name="adj2" fmla="val 1180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9759200">
            <a:off x="3058920" y="206028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760400">
            <a:off x="2987280" y="1989000"/>
            <a:ext cx="3527640" cy="838440"/>
          </a:xfrm>
          <a:prstGeom prst="leftRightArrow">
            <a:avLst>
              <a:gd name="adj1" fmla="val 50000"/>
              <a:gd name="adj2" fmla="val 837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group mentoring"/>
          <p:cNvPicPr/>
          <p:nvPr/>
        </p:nvPicPr>
        <p:blipFill>
          <a:blip r:embed="rId8"/>
          <a:stretch/>
        </p:blipFill>
        <p:spPr>
          <a:xfrm>
            <a:off x="4284720" y="2708280"/>
            <a:ext cx="1079280" cy="129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67640" y="41497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1116000" y="3716280"/>
            <a:ext cx="93492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732720" y="3573360"/>
            <a:ext cx="1031760" cy="79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12000" y="3789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96360" y="12891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Koordin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 B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i 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gućnost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BOŠ u MOŠ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ZAJEDNIČKA AKTIVNOST BOŠ/MOŠ TIMO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VRŠNJAČKIH TIMOVA PO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na lokalu /plan partner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4000" y="90792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B/ MENTOR  MOŠ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484280"/>
            <a:ext cx="87138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MOŠ  KROZ PARTNERSTVO SA 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UPUĆUJE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 OSNAŽUJE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IM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Z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SKE KOMPETENC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MOŠ 2 KROZ MENTORSKE SUSRETE I DRUGE VIDOVE RAZMENE, ZAJEDNO SA MOŠ1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MENTOR 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iše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2</a:t>
            </a:r>
            <a:br>
              <a:rPr sz="4000"/>
            </a:b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zajedno sa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1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group mentoring"/>
          <p:cNvPicPr/>
          <p:nvPr/>
        </p:nvPicPr>
        <p:blipFill>
          <a:blip r:embed="rId2"/>
          <a:stretch/>
        </p:blipFill>
        <p:spPr>
          <a:xfrm>
            <a:off x="179280" y="1916280"/>
            <a:ext cx="2808360" cy="1990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group mentoring"/>
          <p:cNvPicPr/>
          <p:nvPr/>
        </p:nvPicPr>
        <p:blipFill>
          <a:blip r:embed="rId3"/>
          <a:stretch/>
        </p:blipFill>
        <p:spPr>
          <a:xfrm>
            <a:off x="6156360" y="2205000"/>
            <a:ext cx="2592360" cy="2174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0920" y="3933720"/>
            <a:ext cx="8713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ARADJUJE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a mentorom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TIM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ma plan mentorstv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povezivanje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v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šnjačkih  timova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 građenje partnerskih  odnosa sa BO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umrežavanje sa PO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32000" y="2708280"/>
            <a:ext cx="2667240" cy="838080"/>
          </a:xfrm>
          <a:prstGeom prst="leftRightArrow">
            <a:avLst>
              <a:gd name="adj1" fmla="val 50000"/>
              <a:gd name="adj2" fmla="val 633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116000" y="1413000"/>
            <a:ext cx="792000" cy="64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020000" y="170028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E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 M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sa BOŠ 2, specijalizacija 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 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OŠ 1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iše, podržava i prenosi iskustvo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da postanu faktor održivosti I razvoja PO na lok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VT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sposobljen za vršnjačku edukaci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8094" t="0" r="11099" b="0"/>
          <a:stretch/>
        </p:blipFill>
        <p:spPr>
          <a:xfrm>
            <a:off x="0" y="836640"/>
            <a:ext cx="5040360" cy="4678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rcRect l="6260" t="8310" r="0" b="14963"/>
          <a:stretch/>
        </p:blipFill>
        <p:spPr>
          <a:xfrm>
            <a:off x="4824360" y="476280"/>
            <a:ext cx="4319640" cy="2651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427640" y="4365720"/>
            <a:ext cx="388944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O UMREŽAVANJ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0:52:49Z</dcterms:created>
  <dc:creator>vali</dc:creator>
  <dc:description/>
  <dc:language>en-US</dc:language>
  <cp:lastModifiedBy>WINDOWS XP</cp:lastModifiedBy>
  <dcterms:modified xsi:type="dcterms:W3CDTF">2012-02-05T11:30:27Z</dcterms:modified>
  <cp:revision>31</cp:revision>
  <dc:subject/>
  <dc:title>Slide 1</dc:title>
</cp:coreProperties>
</file>