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F0BE-B38E-425D-9DB4-2EC6FAD6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499A-98E1-4419-8536-10294DB2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7DD7-82BA-487C-9C50-03F1B7AC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6F55-3FCE-416E-AEDB-9D2F7FF9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721-8AD1-4F2D-A9E2-3BDEF49A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0AF-C845-43E6-AB96-E998D272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DF41-4EB8-4980-9FF5-CAB1E6F8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88CF-A84E-4F96-BEC0-7B3F8B57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323D-73B7-48EB-BD67-21BA5066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96B0-25AA-49B8-AB23-B8A134FE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1BED-94FC-484C-A97B-4DBA859C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9CE9-A287-4BCF-9D0D-9DD1F218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7285-D3F8-45C3-BD68-267D0CB08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ицање знања, вештина и компетенција пр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сионалаца за рад са младим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у петофазног процесног модела професионалне оријентације и стварање системске мреже подршке у области професионалне оријен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пшти циљ програма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114300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0"/>
            <a:ext cx="85341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напређивање знања, вештина и компетенција професионалаца 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мену модела П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з модуле: самоспознаја, информисање о занимањима, каријери и путевима образовања, реални сусрети са светом рада и доношење одлуке о школи и занимањ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ршку у остварив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ал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ср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са партнерима у области ПО: средње школе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калне канцеларије за младе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ционална служба за запошљавање; привре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 с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одитељ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а на пруж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рш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ци у  процес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ог информисања и саветовања  до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ношењ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одлуке о избору школе и занимањ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цесно оријентисано индивидуално праћење млади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области професионалне оријентациј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режавање професионалац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институциј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 ширење идеје о процесном петофазном модел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е оријентације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990720"/>
            <a:ext cx="8839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пецифични циљеви базичне обу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MP</cp:lastModifiedBy>
  <dcterms:modified xsi:type="dcterms:W3CDTF">2012-02-04T13:21:1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