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9419-95C4-4E24-8E97-5611634BE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3D26-B4D9-48BA-9783-E4A2B0C6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D6A9-9971-42F1-BD67-C7EACBC84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17F7-8BF0-45EC-908F-33DAFC2D9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8174-3AB6-4059-9B5D-A881CDF3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9382-A4FB-46E2-B96B-F9F7FD9A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F3D5-878F-456B-9158-2FAA0778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CB5F-5922-427F-B689-3BF9E24A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4B35-3E8B-4755-B37B-3077D63C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F1B3-ED5F-4598-91E7-E00F3BE3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7022-F8FF-4232-9BBA-C225AC10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F961-E159-493E-A241-B6AABA91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3936-7C3E-4E61-889A-80BA9E06F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Z projekat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ionalna orijentacij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prelazu u srednju ško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1447920" y="2209680"/>
            <a:ext cx="6400800" cy="26672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G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НА ПРЕЛА</a:t>
            </a:r>
            <a:r>
              <a:rPr b="1" lang="sr-RS" sz="1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РЕАЛНИ СУСРЕ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4495680" y="990720"/>
            <a:ext cx="426744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52280" y="2209680"/>
            <a:ext cx="876312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ДОБИ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Активно и искуствено уче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Допуњавање и упоређивање стечених теориј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знања о свету рада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 и заним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Суочавање са информацијама доприно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формирању коначне одлу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4495680" y="990720"/>
            <a:ext cx="426744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04920" y="1371600"/>
            <a:ext cx="845820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ДИРЕКТНИ СУСРЕТИ СА СВЕТОМ РА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Распитивања у предузећ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Ис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пробав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е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акс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у предузећ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УСРЕТИ ИЗ ОБЛАСТИ ОБРАЗОВ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Ис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пробав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е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акс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у шко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УСРЕТИ СА РЕЛАВАНТНИМ ИНСТИТУЦИЈА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ационална служба за запошљавањ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Ц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ентри за информисање,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ив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ИНФОРМАТИВНЕ МАНИФЕСТА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Сајам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образовања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и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ајам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заним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а и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кариј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Дани информисања о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редњим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школама –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Д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ан отворених 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усрети са експертима у настави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304920"/>
            <a:ext cx="8381880" cy="6286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4114800" y="1066680"/>
            <a:ext cx="426708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371600"/>
          <a:ext cx="8229600" cy="4191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7"/>
          <p:cNvSpPr/>
          <p:nvPr/>
        </p:nvSpPr>
        <p:spPr>
          <a:xfrm>
            <a:off x="533520" y="1676520"/>
            <a:ext cx="3968640" cy="34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РАСПИТИВАЊЕ</a:t>
            </a:r>
            <a:r>
              <a:rPr b="1" lang="sr-CS" sz="2000" spc="-1" strike="noStrike">
                <a:solidFill>
                  <a:srgbClr val="1107d7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РГАНИЗАЦИЈИ, ПРЕДУЗЕЋ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ШКО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према за разгово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рв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бијање конкрет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датака за посматр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купљање информ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нзивна, структурис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флекс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4648320" y="1600200"/>
            <a:ext cx="4064040" cy="37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ИСПРОБАВАЊЕ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АКС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РГАНИЗАЦИЈ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ПРЕДУЗЕЋ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ШК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према за учествовање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мом процесу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да “правила игре”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ални сусрет (радни ста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ме понашања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тензивна, структурис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флекс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поређивање да ли стеч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куства одговарају првобитн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чекив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3429000" y="1066680"/>
            <a:ext cx="53341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Посебан изазов</a:t>
            </a:r>
            <a:r>
              <a:rPr b="0" lang="sr-Latn-CS" sz="1800" spc="-1" strike="noStrike">
                <a:solidFill>
                  <a:srgbClr val="cc0000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испробавање прак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962520" y="1600200"/>
            <a:ext cx="50292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одизање свести 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чају испробавања праксе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одршка законској регулативи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арадња релевантних институц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твореност школе и привре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ипрема ученика/ц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школе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Веза са циљевима, исходима, стандардим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курикулум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оцедуре и правила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стваривање реалних сусрета кроз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арадња са родитељ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учене лекције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напређивање области реалних суср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Искуство из пилота потврђује: мисија је могућ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Добити на свим ниво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спостављање системске подрш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P1019204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152280" y="1066680"/>
            <a:ext cx="1600200" cy="1067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P1017108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228600" y="2209680"/>
            <a:ext cx="1600200" cy="1054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P1019192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152280" y="3352680"/>
            <a:ext cx="1600200" cy="1003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veterinar"/>
          <p:cNvPicPr/>
          <p:nvPr/>
        </p:nvPicPr>
        <p:blipFill>
          <a:blip r:embed="rId5">
            <a:lum bright="24000"/>
          </a:blip>
          <a:stretch/>
        </p:blipFill>
        <p:spPr>
          <a:xfrm>
            <a:off x="2057400" y="1676520"/>
            <a:ext cx="1600200" cy="1404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vrtic 1"/>
          <p:cNvPicPr/>
          <p:nvPr/>
        </p:nvPicPr>
        <p:blipFill>
          <a:blip r:embed="rId6"/>
          <a:stretch/>
        </p:blipFill>
        <p:spPr>
          <a:xfrm>
            <a:off x="2057400" y="3276720"/>
            <a:ext cx="1641600" cy="1676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P1019182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228600" y="4419720"/>
            <a:ext cx="14479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2-02-07T12:02:10Z</dcterms:modified>
  <cp:revision>1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