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898-2B1D-46AA-8D68-43B35283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4D6-25D1-41EC-8BB5-0F8BAD45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A65-9CA8-4355-922C-70764EE7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83C6-C866-41F4-AE30-3DB78531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64C-DA2C-489E-8554-5EB72C50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85A-3646-4BD7-B53E-C9FA10BE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8EA-6AAE-4875-B221-003DECD5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73D-F3BD-4D80-A30D-0F7E93B0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D20-BFBF-4B9C-AA14-1BECB72A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99C-426A-4CBC-98D3-D483EDAF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4EC-8DB8-4FA6-98DF-C70E97BF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46C2-D657-42B0-8CB1-34740748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54F9-76DB-435A-9C55-2612C20EB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228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RITERIJUMI U 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9736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Izv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Roditelji i škola:kako do uspešne saradn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Jelena Vranješević, Učiteljski fakultet, Be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ograd, Smeder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9.06.-01.07.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Uvodi nešto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anja postojeće b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tiče dalje promene u toj ob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) Služi da osvetli postojeće probleme, podstiče pitanja u određenoj oblasti i proces kritičkog pre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3) Nosi sa sobom određeni stepen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) Prethodi proveri svoje 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) Multikontekstualna - može da se primeni i u drugim kontek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imer dobre prakse u 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Š “Đura Jakšić” Kiki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: Uključivanje roditelja u cilju unapređivanja kvaliteta Programa 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Zadat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nalaženje mehanizama  za  aktivno uključivanje roditelja škole u program “ PO na prelasku u srednju škol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daju doprinos u svakoj fazi PO procesa: zajedno sa učenicima prolaze radionice; zajedno sa učenicima u  kreativnim  akcijama- Po kvizovi, PO izleti; Po kokteli; roditelji kao edukatori o svom zanimanju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telji kao PR Program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Osnovni princ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 roditelja i nastavnika tokom celog procesa implementacije pr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itivanje potreba roditelja 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iranje akcija u odnosu na identifikovane potr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Rezultat – mini projek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lan specijalizacije u oblasti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 roditelja u svaki segment- fazu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 i realizatori  aktivnosti PO, zajedno sa svojom dec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motivatori  drugih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u ulozi edukatora  u šk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Provera –zašto smo rekli “DA,ovo je dobra praksa! 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Uvodi nešto novo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oditelji kao res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ja tokom celog procesa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Multikontekstu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drživost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ktivnosti u projektu su postale deo godišnjeg plan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buhvat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uključeni roditelji učenika od 1-8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overa svakog DA kroz “obruč” kriterijum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276640"/>
            <a:ext cx="3816360" cy="34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781360"/>
            <a:ext cx="273672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51280" y="3789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87280" y="321264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1079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1942920" cy="2016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1513" y="16313"/>
                </a:moveTo>
                <a:arcTo wR="-10800" hR="-10800" stAng="8958158" swAng="-9238260"/>
                <a:lnTo>
                  <a:pt x="36" y="11679"/>
                </a:lnTo>
                <a:arcTo wR="10800" hR="10800" stAng="10519897" swAng="9238260"/>
                <a:lnTo>
                  <a:pt x="22408" y="3908"/>
                </a:lnTo>
                <a:lnTo>
                  <a:pt x="21465" y="7608"/>
                </a:lnTo>
                <a:lnTo>
                  <a:pt x="17765" y="66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41000">
            <a:off x="5219280" y="3357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Verdana"/>
              </a:rPr>
              <a:t>RODITELJI ZAJEDNO SA UČENICIMA NA SVIM RADIONI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0:09:56Z</dcterms:created>
  <dc:creator>Valerija Živković</dc:creator>
  <dc:description/>
  <dc:language>en-US</dc:language>
  <cp:lastModifiedBy>Valerija Živković</cp:lastModifiedBy>
  <dcterms:modified xsi:type="dcterms:W3CDTF">2012-06-26T10:33:16Z</dcterms:modified>
  <cp:revision>6</cp:revision>
  <dc:subject/>
  <dc:title>Slide 1</dc:title>
</cp:coreProperties>
</file>