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829-B4D1-4E53-852A-C61A3ED3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5EB-E04A-4A04-957C-18E8C787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98E-0912-438F-A18A-A5206952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967-3D6C-4673-AB6A-A561895B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DE2-C1E5-47A2-BB2A-96BFEAF7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1318-0EAE-4E37-87E9-F354F033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2C0-CC6B-4BFF-9B0F-3A1DB769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A25F-82C3-45A2-9136-F067D61C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8A23-F3E2-41A2-BAE7-79A07ADB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279-26FA-46F3-89BB-CA87D916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29D-31CF-440C-A92D-9C23E051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0F7F-B502-4A77-9D16-E4496C58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41B2-A9E0-4125-BC6D-6B5C74056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492280"/>
            <a:ext cx="701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KRITERIJUMI U 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97360"/>
            <a:ext cx="705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teratura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/Izv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Roditelji i škola:kako do uspešne saradnj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Jelena Vranješević, Učiteljski fakultet, Beog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u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eograd, Smeder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9.06.-01.07.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) Uvodi nešto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lanja postojeće bari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stiče dalje promene u toj obl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) Služi da osvetli postojeće probleme, podstiče pitanja u određenoj oblasti i proces kritičkog preispit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3) Nosi sa sobom određeni stepen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) Prethodi proveri svoje efik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) Multikontekstualna - može da se primeni i u drugim konteks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imer dobre prakse u 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Š “Đura Jakšić” Kiki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lj: Uključivanje roditelja u cilju unapređivanja kvaliteta Programa 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Zadata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nalaženje mehanizama  za  aktivno uključivanje roditelja škole u program “ PO na prelasku u srednju škol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daju doprinos u svakoj fazi PO procesa: zajedno sa učenicima prolaze radionice; zajedno sa učenicima u  kreativnim  akcijama- Po kvizovi, PO izleti; Po kokteli; roditelji kao edukatori o svom zanimanju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itelji kao PR Program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Osnovni princip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radnja roditelja i nastavnika tokom celog procesa implementacije progr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itivanje potreba roditelja i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iranje akcija u odnosu na identifikovane potr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Rezultat – mini projek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Plan specijalizacije u oblasti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ključivanje roditelja u svaki segment- fazu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 i realizatori  aktivnosti PO, zajedno sa svojom deco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motivatori  drugih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u ulozi edukatora  u ško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907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3300"/>
                </a:solidFill>
                <a:latin typeface="Arial"/>
              </a:rPr>
              <a:t>Provera –zašto smo rekli “DA,ovo je dobra praksa! 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Uvodi nešto novo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oditelji kao res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radnja tokom celog procesa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Multikontekstua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drživost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ktivnosti u projektu su postale deo godišnjeg plan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buhvatnos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uključeni roditelji učenika od 1-8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overa svakog DA kroz “obruč” kriterijum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2276640"/>
            <a:ext cx="3816360" cy="34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2781360"/>
            <a:ext cx="273672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51280" y="3789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987280" y="321264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1079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1942920" cy="201600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1513" y="16313"/>
                </a:moveTo>
                <a:arcTo wR="-10800" hR="-10800" stAng="8958158" swAng="-9238260"/>
                <a:lnTo>
                  <a:pt x="36" y="11679"/>
                </a:lnTo>
                <a:arcTo wR="10800" hR="10800" stAng="10519897" swAng="9238260"/>
                <a:lnTo>
                  <a:pt x="22408" y="3908"/>
                </a:lnTo>
                <a:lnTo>
                  <a:pt x="21465" y="7608"/>
                </a:lnTo>
                <a:lnTo>
                  <a:pt x="17765" y="666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141000">
            <a:off x="5219280" y="3357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Verdana"/>
              </a:rPr>
              <a:t>RODITELJI ZAJEDNO SA UČENICIMA NA SVIM RADIONI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0:09:56Z</dcterms:created>
  <dc:creator>Valerija Živković</dc:creator>
  <dc:description/>
  <dc:language>en-US</dc:language>
  <cp:lastModifiedBy>Valerija Živković</cp:lastModifiedBy>
  <dcterms:modified xsi:type="dcterms:W3CDTF">2012-06-26T10:33:16Z</dcterms:modified>
  <cp:revision>6</cp:revision>
  <dc:subject/>
  <dc:title>Slide 1</dc:title>
</cp:coreProperties>
</file>