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C610-9781-485A-BB9C-C04EC0F0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42D-398B-4BD2-AE1A-EA13C2A9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71C0-7333-4C2E-8868-22A38660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DAC5-573C-4943-9F6E-5BC47BBF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11F-F448-4BAA-9C54-D454BF96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1A12-F62E-46B4-A45D-6F6FCDD6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8C4-9F62-429C-BDCB-89FBBEC6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27A-9559-4613-9CEE-7D88C68C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50D1-1875-4911-919F-73C60438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996-EAEF-48D2-9636-875A3B68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6D5-C0E0-4303-BCB8-5054F716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5BE0-CC53-41C6-A16E-C20DA46A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3BA1-38B4-4F0B-AE48-357CFC3C2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468360" y="1484280"/>
            <a:ext cx="8393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TRAŽIVANJE POČETNOG STANJA POTREBA ZA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14240" y="2071800"/>
            <a:ext cx="80010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raž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avilo proceno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etnog stanja potreba učenika za profesionalnom orijentacijo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jihovih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donesu adekvatnu odluku o svom daljem školovanju i budućem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to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osnovnih škola širom Srbije, obuhvaćenih prvim projektnim ciklusom: 14 MOŠ (sve MOŠ uključene u prvom ciklusu) i 11 BOŠ (slučajan uzora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itani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30 učenika sedmog (384)  i osmog razreda (5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procen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pitnik za učenike POU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e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vembar 20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642960" y="1500120"/>
            <a:ext cx="8001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zvori primljenih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714240" y="2643120"/>
            <a:ext cx="80010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čno, mladi su se obavestili o budućem zanimanju iz 3 od mogućih 8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češć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dica i vršnjac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in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u to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i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i informa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: ps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olozi/pedagoz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i se bave zanimanjem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/instituci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ojima se zanimanje obavl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od petine učenika učenika koristi bare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načaj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14240" y="221472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procenjuju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koji informisanost  i različiti izvori informacija imaju za odluku o obrazovanju i 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o procenj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pojedinih informac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kojim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oljno obavešte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u svesni značaja informacija o obrazovanju i zanimanjima koje se dobijaju 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nom kontaktu sa budućim školama i firm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kojima se data zanimanja obavlja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lasti rada i kvalitet odluč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14240" y="2143080"/>
            <a:ext cx="80010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rada za koje su mladi zainteresov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prosečno bira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 navedene 22 oblasti 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e razlike u popularnosti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- od 3% do 4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n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e razlik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opularnosti skoro svih obla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et odlučivanja uče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e smatr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i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spravne odluke o školovanju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potrebnih kor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eđ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tvrtine i petine učenika nije sprem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donošenje odluke o budućem školovanju/zanimanj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 - Rodne razl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14240" y="2033640"/>
            <a:ext cx="8001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ormacije iz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e socijalne sredine i med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č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iz šire socijalne sred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ije značaja informis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dnosu na dečake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voren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prevazilažen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i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ereotipa u oblasti zanimanja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rel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proce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učivan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rofesiji i obraz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ovanje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čite oblast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a je kod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raznovrs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 kod dečaka  - manja sloboda izbora i više društvenih ograničenja za devojč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714240" y="2033640"/>
            <a:ext cx="80010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ci pokaz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zaključ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značaju informisanja u oblastima o kojima imaju dovoljno podata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ju potrebu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išćenjem više različitih izvora informa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sebn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 i institucije u kojima se obavljaju zanim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koji se bave željenim zanimanj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za profesionalnu orijentaci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 za jednu petinu učenika 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uka za profesionalnu orijentaciju ključ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nformisane odluke o školovanju/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14240" y="203364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šće psihologa, pedagoga i nastavnika, kao i uključivanje drugih organizacija, preduzeća i škol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rofesionalnoj orijentaciji učenika n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daleka ne zadovoljava njihove potreb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 potrebna podrška da b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bodnije i samopouzdanije birali zanim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odgovaraju njihovim sposobnos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1T14:50:13Z</dcterms:created>
  <dc:creator>Jasna</dc:creator>
  <dc:description/>
  <dc:language>en-US</dc:language>
  <cp:lastModifiedBy>WINDOWS XP</cp:lastModifiedBy>
  <dcterms:modified xsi:type="dcterms:W3CDTF">2012-02-13T22:03:20Z</dcterms:modified>
  <cp:revision>36</cp:revision>
  <dc:subject/>
  <dc:title>Slide 1</dc:title>
</cp:coreProperties>
</file>