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EDF9-110F-4B3A-927D-700B80982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Dok se svako rađa kao jedinka određenog pola, rod nastaje tokom socijaliza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Pol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biološka kategorija. 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biološke razlike između žena i muškaraca. One su uglavnom trajne i univerzal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Rod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društvena kategorija.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ruštveno konstruisane uloge žena i muškaraca. Na koji način jedno društvo vidi ulogu žene i muškarca i šta od svakog od njih očekuje (društvena očekivanja vezana za rodne uloge) zavisi od niza faktora: kulturnih, političkih, ekonomskih, društvenih i religioznih. Na njih podjednako utiču i običaji, pravo, klasna i etnička pripadnost, kao i predrasude raširene u datom društvu. Stavovi i ponašanja prema rodu su naučeni i mogu se mijenjat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ansrodnost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дентификовање са или непредстављање у складу са родом који је особи додељен приликом рођењ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8DFF-8E80-4512-A9FB-08A17C875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eformalne prepre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vo istraživanje je pokazalo da muškarci češće od žena imaju “važniji posao”, više doprinose rešavanju stambenog pitanja, češže obezbeđuju prihode, češće su autoriteti za decu i češće od žena donose najvažnije odlu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e češće preuzimaju inicijativu nakon svađe, češće održavaju rođačke i prijateljske odnose i češće se žrtvuju za de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motivnu podršku pružaju že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C4CF-919C-467B-A226-6FE8C03E1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aga ovih uverenja koja pogađa životne puteve muškaraca i žen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je velika, i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tkriva se u studijama izbora karijere i razvoja karijere.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zbor zanimanja je izuzetno važan jer struktuira znatan deo života, obezbeđuje izvor socijalnog identiteta i u značajnoj meri određuje zadovoljstvo životom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Čitave klase zanimanja mogu da se eliminišu na osnovu opažene sopstvene efikasnosti, bez obzira na dobre strane zanimanja. ostavljaju trag na uverenja žena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 i muškarac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njihovim sposobnostima, sklonostim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profesionalnoj efikasnosti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o, na primer, priroda stereotipa vezanih za muski pol karakterise pripadnike ovog pola kao agresivnije, bezosecajnije, neovisnije, objektivnije, dominantnije i aktivnije od pripadnika drugog pol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ne su pasivnije, pricljivije, neznije i osecajnije.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4AFF-6EDC-4BC5-B8ED-AB89ABDC8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Zašto je rodna ravnopravnost bit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na ravnopravnost nije samo pitan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socijalne pravd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ć 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ključna za postizanje društvenog razvoj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jelotvoran i efikasan način, kao i eliminaciju siromašt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ravednost i jednakost (ljudska prava)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redibilitet i odgovorna vl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Zasniva se na tome da nijedna politika ili program koji se ne baziraju na potrebama oba pola neće imati kredibilitet - izostaviće pola stanovništv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rgument jasno ističe neoborivu činjenicu: od ravnopravnog učešća žena i muškaraca u svim aspektima razvoja i društva korist će imati država kao cjelin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valitet živo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žnja posvećena rodnoj ravnopravnosti poboljšaće lični život žena i muškaraca. Zna se da žene imaju dobrobit od rodne ravnopravnosti, međutim, ovaj argument naglašava da dobrobit imaju i muškarci i porodice, znajući važnost i međuzavisnost socijalnih odnosa i ulog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AAA5-B0BA-4E6B-A751-9C6003373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Feminizam – pokret koji se zalaže za oslobođenje žena u političkom i ekonomskom smislu,  oslobađanje od diskriminacije i tradicionalnih rodnih uloga (majke domaćice i supruge)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inistički pokret se ispočetka ispoljavao u dva oblika - kao pokret za ravnopravnost u plaćama, odnosno kao pokret kao davanje prava glasa ženama. Ovo potonje je s vremenom postignuto u većini zapadnih zemalja nakon prvog svjetskog rata, a kasnije i u ostatku svije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ko je politička, a i ekonomska ravnopravnost žena postignuta u institucionalnom smislu, tako je i feminizam postepeno evolucirao u novu formu tzv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adikalnog feminizm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kome je cilj bio promijeniti tradicionalnu ulogu žene u društvu putem napada na brak i materinstvo kao tradicionalne institucije, odnosno na muškarce koji su po prirodi represivni prema ženama. Iako je relativno malen broj žena prihvatio taj ekstremni stav, danas se feminizam najčešće povezuje s nj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EE64-1825-4585-B4CB-24A4B018C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a uvodjenje rodna ravopravnost koriste se razni oblici mehanizama I instrumenata. Dakle, postoje pravni preduslovi za uspostvljanje rodne ravnopravnost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Savet za ravnopravnost polova Vlade Republike Srbije (2002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prava za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rodnu ravnopravnost pri Ministarstvu rada i socijalne poli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2008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Odbor za ravnopravnost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polova u Skupštini RS (2003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Lica za ravnopravnost polova u opštinam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amenica ombudsmana za rodnu ravnopravnos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overenik/Poverenica za zaštitu ravnopravnost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8A90-2CFA-413F-9FFA-D1D8DB388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tatistik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od nas pokazuje </a:t>
            </a:r>
            <a:r>
              <a:rPr b="0" lang="sr-Latn-CS" sz="10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oje znatne disproporcije i disbalansi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razlike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zm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 m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ca 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da se radi o st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slenesti, visini zarada, posedovanju imovine, p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ijama u zanimanju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yovanj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poslenost, nezaposlenost, aktiv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ra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sedovanje imo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obrazovan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zicije u zanimanj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CF4B-DC21-4915-97FC-C9604B075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DFA-A72C-4B04-B761-C9460431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DBCE-1E98-478B-9FC1-86C33820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4AF-E954-46AE-8597-7C3CB8FA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70DD-802E-4AB6-A47A-6FDFEC4F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782-BEFD-4B69-8049-6458E086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4D42-D9AC-4E04-87BD-11E03A98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CEB3-9010-4402-8602-26995AC1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F19-9476-432E-9CED-002921F5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7043-F519-4A50-A7FB-043D79EA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95D2-4D35-44ED-97EB-B98F3BCA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C97D-3AE7-4F4F-BAB9-149C7CD6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CA1-2402-4F41-BBEF-9D2499E7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EEB3-F1F1-4831-8A0C-4A0CF62CCF3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-jednakost.org.rs/kurs/kurs/download/evropskapoveljaorodnojravnopravnosti.pd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258920"/>
            <a:ext cx="8642160" cy="19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odn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 ravnopravnost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i stereotipi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479736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rojekat:  Profesionalna orijentacija pri prelasku u srednju </a:t>
            </a: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ško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476360" y="3789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ja Ivkov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ljudi u redu.jpg"/>
          <p:cNvPicPr/>
          <p:nvPr/>
        </p:nvPicPr>
        <p:blipFill>
          <a:blip r:embed="rId1"/>
          <a:stretch/>
        </p:blipFill>
        <p:spPr>
          <a:xfrm>
            <a:off x="6659640" y="4657680"/>
            <a:ext cx="2160360" cy="220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ljudi u redu.jpg"/>
          <p:cNvPicPr/>
          <p:nvPr/>
        </p:nvPicPr>
        <p:blipFill>
          <a:blip r:embed="rId2"/>
          <a:stretch/>
        </p:blipFill>
        <p:spPr>
          <a:xfrm>
            <a:off x="4572000" y="465768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ljudi u redu.jpg"/>
          <p:cNvPicPr/>
          <p:nvPr/>
        </p:nvPicPr>
        <p:blipFill>
          <a:blip r:embed="rId3"/>
          <a:stretch/>
        </p:blipFill>
        <p:spPr>
          <a:xfrm>
            <a:off x="2484360" y="465768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judi u redu.jpg"/>
          <p:cNvPicPr/>
          <p:nvPr/>
        </p:nvPicPr>
        <p:blipFill>
          <a:blip r:embed="rId4"/>
          <a:stretch/>
        </p:blipFill>
        <p:spPr>
          <a:xfrm>
            <a:off x="539640" y="4657680"/>
            <a:ext cx="20862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 škole se upisuju jednaki broj devojčica i deča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evojčice u proseku imaju bolje rezul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Gotovo isti broj devojaka i momaka upisuje stud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L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čine manje od 40% radne sn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imaju u proseku manje za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Razlike počinju prilikom izbora škole i zanim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zauzimaju znatno manje mesta na ključnim pozic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Velike su rodne razlike kod korišćenja vremena (slobodno vreme, kućne aktivnosti, neplaćeni poslov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slicica x oks.bmp"/>
          <p:cNvPicPr/>
          <p:nvPr/>
        </p:nvPicPr>
        <p:blipFill>
          <a:blip r:embed="rId1"/>
          <a:stretch/>
        </p:blipFill>
        <p:spPr>
          <a:xfrm>
            <a:off x="7020000" y="2421000"/>
            <a:ext cx="1844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5" descr="aktivnost, po polu, graf.jpg"/>
          <p:cNvPicPr/>
          <p:nvPr/>
        </p:nvPicPr>
        <p:blipFill>
          <a:blip r:embed="rId1"/>
          <a:stretch/>
        </p:blipFill>
        <p:spPr>
          <a:xfrm>
            <a:off x="138240" y="765000"/>
            <a:ext cx="875484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Prosečne z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ad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539640" y="1916280"/>
          <a:ext cx="4319640" cy="42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431964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Box 4"/>
          <p:cNvSpPr/>
          <p:nvPr/>
        </p:nvSpPr>
        <p:spPr>
          <a:xfrm>
            <a:off x="5580000" y="2349360"/>
            <a:ext cx="273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 svaki dolar koji zaradi muškarac, žene zara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Meksik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Nigerij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Šri Lank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Bangladeš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00160"/>
            <a:ext cx="88200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novnišvo staro 15 i više godina prema školsokoj spremi i po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1206360"/>
          <a:ext cx="8370720" cy="4886640"/>
        </p:xfrm>
        <a:graphic>
          <a:graphicData uri="http://schemas.openxmlformats.org/drawingml/2006/table">
            <a:tbl>
              <a:tblPr/>
              <a:tblGrid>
                <a:gridCol w="4630680"/>
                <a:gridCol w="1245960"/>
                <a:gridCol w="1247760"/>
                <a:gridCol w="1246320"/>
              </a:tblGrid>
              <a:tr h="6112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/okto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Ukup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uškar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Že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z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potpuna 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0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ednj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09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š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kultet, akademija ili visok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92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ucenici srednja skola po polu.jpg"/>
          <p:cNvPicPr/>
          <p:nvPr/>
        </p:nvPicPr>
        <p:blipFill>
          <a:blip r:embed="rId1"/>
          <a:stretch/>
        </p:blipFill>
        <p:spPr>
          <a:xfrm>
            <a:off x="855720" y="0"/>
            <a:ext cx="743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diplomirani stuenti, po polu, graf.jpg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588280" cy="361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6932520" cy="1320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50920" y="6453360"/>
            <a:ext cx="83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769240" y="6477120"/>
            <a:ext cx="31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DC6F-C93A-4638-8055-EE9353C3E5D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2280" y="4343400"/>
            <a:ext cx="8382240" cy="4572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zaposlena lica prema znimanju i polu, graf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ntent Placeholder 3" descr="donosenje odluka, prema nivou odlucivanja.jpg"/>
          <p:cNvPicPr/>
          <p:nvPr/>
        </p:nvPicPr>
        <p:blipFill>
          <a:blip r:embed="rId1"/>
          <a:stretch/>
        </p:blipFill>
        <p:spPr>
          <a:xfrm>
            <a:off x="395280" y="476280"/>
            <a:ext cx="874872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nistri vlade Republike Srbije, struktura i broj prema polu 2002 - 201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1280" y="1484280"/>
          <a:ext cx="805320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84280"/>
                    <a:ext cx="80532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3"/>
          <p:cNvSpPr/>
          <p:nvPr/>
        </p:nvSpPr>
        <p:spPr>
          <a:xfrm>
            <a:off x="1403280" y="648828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692280"/>
          <a:ext cx="8229600" cy="1439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8360" y="234936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logij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štv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7200" y="312732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tura/običaj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57200" y="386244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zal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nljiv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9" descr="likovi muski zenski i sa pola suknje.jpg"/>
          <p:cNvPicPr/>
          <p:nvPr/>
        </p:nvPicPr>
        <p:blipFill>
          <a:blip r:embed="rId1"/>
          <a:stretch/>
        </p:blipFill>
        <p:spPr>
          <a:xfrm>
            <a:off x="3203640" y="4724280"/>
            <a:ext cx="2857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A351-9467-46ED-B545-62168CF3AF4B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Porodica </a:t>
            </a:r>
            <a:r>
              <a:rPr b="1" lang="sr-Latn-C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Vlasništvo</a:t>
            </a:r>
            <a:br>
              <a:rPr sz="2600"/>
            </a:b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Izvor </a:t>
            </a:r>
            <a:r>
              <a:rPr b="1" lang="sr-Latn-CS" sz="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Altera MB, AŽIN, Rodni barometar  Društveni položaj žena i muškaraca , 200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381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60000"/>
              </a:lnSpc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" spc="-1" strike="noStrike">
                <a:solidFill>
                  <a:srgbClr val="000000"/>
                </a:solidFill>
                <a:latin typeface="Calibri"/>
              </a:rPr>
              <a:t>Izvor: Rodni barometar, 2006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794720" cy="3984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692360" y="630864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odela odgovornosti u privatnoj sferi </a:t>
            </a: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- porodica i slobodno vreme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isoko učešće proširenih porodica ( i to patricentričnih domaćinstva), pad nuklearnih formi porodi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atrilokalni obrazac formiranja domaćin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rast jednočlanih, dvočlanih porod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nemarljivo nizak udeo alternativnih formi suživ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Žene znatno više vremena ulažu u neplaćen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kućni) rad, brigu oko dece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tarih i bolesnih l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porodica grafika sarena.jpg"/>
          <p:cNvPicPr/>
          <p:nvPr/>
        </p:nvPicPr>
        <p:blipFill>
          <a:blip r:embed="rId1"/>
          <a:stretch/>
        </p:blipFill>
        <p:spPr>
          <a:xfrm>
            <a:off x="6516720" y="4149720"/>
            <a:ext cx="2376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spodela kućnih posl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1557360"/>
          <a:ext cx="8229600" cy="4726080"/>
        </p:xfrm>
        <a:graphic>
          <a:graphicData uri="http://schemas.openxmlformats.org/drawingml/2006/table">
            <a:tbl>
              <a:tblPr/>
              <a:tblGrid>
                <a:gridCol w="2463840"/>
                <a:gridCol w="1222200"/>
                <a:gridCol w="1695600"/>
                <a:gridCol w="1536480"/>
                <a:gridCol w="131148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sta kućnog pos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že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muškarc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zajed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tal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šćen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gl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 male d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2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ga o školskim obavez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1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4"/>
          <p:cNvSpPr/>
          <p:nvPr/>
        </p:nvSpPr>
        <p:spPr>
          <a:xfrm>
            <a:off x="324000" y="6488280"/>
            <a:ext cx="88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Извор: Трансформацијске стратегије друштвених група у Србији, ИСИФ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ontent Placeholder 3" descr="vreme u neplacenim poslovima, graf.jpg"/>
          <p:cNvPicPr/>
          <p:nvPr/>
        </p:nvPicPr>
        <p:blipFill>
          <a:blip r:embed="rId1"/>
          <a:stretch/>
        </p:blipFill>
        <p:spPr>
          <a:xfrm>
            <a:off x="457200" y="836640"/>
            <a:ext cx="82296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Rodno senzitivni jez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Jezik je odraz zajednice; prošlosti, sadašnjosti i promena koje se u njoj dešava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odno osetljiva upotreba jezika pomaže spoznaji da je ravnopravnost u društvu potrebna i omogućava veću vidljivost ž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ako su se menjali odnosi u društvu menjalo se i značenje pojedinih reči (titula), npr: ministar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Rodni stereotip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125360"/>
            <a:ext cx="914400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Šta su to stereotipi?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ke u našim glavama“ koje pružaju okvire za objašnjenje događaja o kojima smo nedovoljno, djelimično obaviješte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Predras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gativ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avov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ajčešće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ogički nezasnova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i neutemelje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na ličnom iskustvu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Rodni stereotip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vljaju se uz odredjenu polnu grup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podrazumevaju citav niz karakteristika, bilo fizick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lo psihickih, koje tu grupu opisuju i odredjuj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slicica za slajd.png"/>
          <p:cNvPicPr/>
          <p:nvPr/>
        </p:nvPicPr>
        <p:blipFill>
          <a:blip r:embed="rId1"/>
          <a:stretch/>
        </p:blipFill>
        <p:spPr>
          <a:xfrm>
            <a:off x="6012000" y="3790800"/>
            <a:ext cx="2904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Uticaj stereotipa na izbor zanim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280" y="1557000"/>
            <a:ext cx="4040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naga stereotipa je izuzetno velika i utiče na donošenje mnogih bitnih odl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bor zanimanja je izuzetno važan jer struktuira znatan deo života, obezbeđuje izvor socijalnog identiteta i u značajnoj meri određuje zadovoljstvo životo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Često 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av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grup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nimanja mog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bit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imini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a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a osnov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i se često provlače neopaženo (kroz jezik, svakodnevne izreke, reklame, slik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6" descr="slicica doktor i medicinska sestra.jpg"/>
          <p:cNvPicPr/>
          <p:nvPr/>
        </p:nvPicPr>
        <p:blipFill>
          <a:blip r:embed="rId1"/>
          <a:stretch/>
        </p:blipFill>
        <p:spPr>
          <a:xfrm>
            <a:off x="5076720" y="1773360"/>
            <a:ext cx="1800360" cy="254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na gleda muza i sina kroz prozor.jpg"/>
          <p:cNvPicPr/>
          <p:nvPr/>
        </p:nvPicPr>
        <p:blipFill>
          <a:blip r:embed="rId2"/>
          <a:stretch/>
        </p:blipFill>
        <p:spPr>
          <a:xfrm>
            <a:off x="6659640" y="3716280"/>
            <a:ext cx="20764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000000"/>
                </a:solidFill>
                <a:latin typeface="Calibri"/>
              </a:rPr>
              <a:t>Hvala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0755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f7f7f"/>
                </a:solidFill>
                <a:latin typeface="Calibri"/>
              </a:rPr>
              <a:t>Pitanja i komenta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4797000"/>
            <a:ext cx="800244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Marija Ivkovi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m</a:t>
            </a: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arija.ivkovic22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7640" y="263700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7f7f"/>
                </a:solidFill>
                <a:latin typeface="Arial"/>
              </a:rPr>
              <a:t>Sledi radionica: rodni stereoti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odne ulo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ktiv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dgovor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koje se dodjeljuju muškarcima i ženama na osnovu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tpostavljenih karakteristika i atribut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a pre svega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pola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mest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osobnosti i veštin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slicica znakovi za pol.jpg"/>
          <p:cNvPicPr/>
          <p:nvPr/>
        </p:nvPicPr>
        <p:blipFill>
          <a:blip r:embed="rId1"/>
          <a:stretch/>
        </p:blipFill>
        <p:spPr>
          <a:xfrm>
            <a:off x="6781680" y="4915080"/>
            <a:ext cx="23623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Rodna ravnopravnos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tpostavka da u jednom društvu, zajednici ili organizaciji postoj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za žene, muškarce i osobe drugačijih rodnih identiteta da doprinesu kulturnom, političkom, ekonomskom i socijalnom napretku, kao i da imaju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da uživaju sve koristi i dobrobiti od napretka jedne zajedni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195640" y="6372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ropska povelja o rodnoj ravnopravnosti na lokalnom nivou 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lin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judi u redu.jpg"/>
          <p:cNvPicPr/>
          <p:nvPr/>
        </p:nvPicPr>
        <p:blipFill>
          <a:blip r:embed="rId1"/>
          <a:stretch/>
        </p:blipFill>
        <p:spPr>
          <a:xfrm>
            <a:off x="5003640" y="5229360"/>
            <a:ext cx="2086200" cy="2200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Bitn</a:t>
            </a:r>
            <a:r>
              <a:rPr b="1" lang="sr-Latn-CS" sz="5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je za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dsticanje društvenog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liminaciju siromaštv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redibilitet i odgovornost vlast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valitet života pojedinac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ljudi u redu.jpg"/>
          <p:cNvPicPr/>
          <p:nvPr/>
        </p:nvPicPr>
        <p:blipFill>
          <a:blip r:embed="rId2"/>
          <a:stretch/>
        </p:blipFill>
        <p:spPr>
          <a:xfrm>
            <a:off x="705816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Kada i kako je sve počel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Feminizam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 naziv za skup ideologija i političkih pokreta kojima je cilj poboljšanje položaja žene u društvu, odnosno izjednačavanje prava žena s pravima muškaraca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ydvajaju se tr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eriod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Prv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- kraje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 označavao borbu žen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za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</a:rPr>
              <a:t>pravo glas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e feministkinje su bile poznate kao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sifražetkinj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rugi talas -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60-ih i 70-ih godina 20.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redstavlj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klasične postavke i fokuse feminizma kao što su organizacija masovnog pokreta, rodna ravnopravnost, antiimperijalizam, promenu zakonodavstva, edukacija žena, problematika muškog nasilja i s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Treć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– o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-ih i traje do dana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kušava da prenebregne rodne razlike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izak j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eki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ugim teorijam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o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što je kvir teorij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we can do it!.jpg"/>
          <p:cNvPicPr/>
          <p:nvPr/>
        </p:nvPicPr>
        <p:blipFill>
          <a:blip r:embed="rId1"/>
          <a:stretch/>
        </p:blipFill>
        <p:spPr>
          <a:xfrm>
            <a:off x="6942240" y="4003560"/>
            <a:ext cx="220176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ljudi u redu.jpg"/>
          <p:cNvPicPr/>
          <p:nvPr/>
        </p:nvPicPr>
        <p:blipFill>
          <a:blip r:embed="rId1"/>
          <a:stretch/>
        </p:blipFill>
        <p:spPr>
          <a:xfrm>
            <a:off x="468360" y="5229360"/>
            <a:ext cx="2085840" cy="2200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Gender mainstreaming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ili kako uvesti rodnu ravnopravno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24000" y="177336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na ravnopravnost je cilj, a gender m. je na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procenjivanja posledica svake planirane akcije, ukl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zakonodavstvo, politike i programe, z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 i m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ce, u svim oblastima i na svim nivoi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Predstavlja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k dalje u odnosu na formalnu implementaciju zakona o rodnoj ravnopravnosti i zahteva praktična primena principa koji su zakonski već regulisan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ljudi u redu.jpg"/>
          <p:cNvPicPr/>
          <p:nvPr/>
        </p:nvPicPr>
        <p:blipFill>
          <a:blip r:embed="rId2"/>
          <a:stretch/>
        </p:blipFill>
        <p:spPr>
          <a:xfrm>
            <a:off x="6732720" y="522936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ljudi u redu.jpg"/>
          <p:cNvPicPr/>
          <p:nvPr/>
        </p:nvPicPr>
        <p:blipFill>
          <a:blip r:embed="rId3"/>
          <a:stretch/>
        </p:blipFill>
        <p:spPr>
          <a:xfrm>
            <a:off x="4643280" y="522936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ljudi u redu.jpg"/>
          <p:cNvPicPr/>
          <p:nvPr/>
        </p:nvPicPr>
        <p:blipFill>
          <a:blip r:embed="rId4"/>
          <a:stretch/>
        </p:blipFill>
        <p:spPr>
          <a:xfrm>
            <a:off x="255600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Zakonska regula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000" y="1125360"/>
            <a:ext cx="8218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USTAV I ZAKON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Ustav republike Srbije garantuj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jednakost muškaraca i žena i razvijanje politike jednakih mogućnost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USTAV REPUBLIKE SRBI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Ravnopravnost polova (čl. 15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Država jemči ravnopravnost žena i muškaraca i razvija politiku jednakih mogućnost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Sastav Narodne skupštine  (čl.100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Narodnu skupštinu 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ini 250 narodnih poslanika, koji se biraju na neposrednim izborima, tajnim glasanjem, u skladu sa zakonom. U Narodnoj skupštini obezbe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uju se ravnopravnost i zastupljenost polova i predstavnika nacionalnih manjina, u skladu sa zakono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Calibri"/>
              </a:rPr>
              <a:t>Zakon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: Zakon o radu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zborni zakon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Krivični zakon, Porodični zakon, Zakon o ravnopravnosti polova, Strategija za unapređenje položaja žena i rodnu ravnopravnost, druge strategije takođe se dotiču ove teme (Strategija za poboljšanje položaja mladih, St. za podsticanje rađanja.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MEHANIZMI – RADNA, IZVRŠNA I EKSPERTSKA TE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Odbor za ravnopravnost polova Narodne skupštine Republike Srbije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Savet za ravnopravnost polova Vlade RS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Zaštitnik prava građana (i zamenica za pitanja rodne ravnopravnost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Uprava (Sekretar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za rodnu ravnopravnost u okviru  Ministarstva rada i socijalne politik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nstitucionalizovani mehanizmi AP Vojvod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Lokalne komisije za rodnu ravnopravno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GIZ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–opredeljenje da na svim projektima bude uključena rodna dimenzij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pecat.jpg"/>
          <p:cNvPicPr/>
          <p:nvPr/>
        </p:nvPicPr>
        <p:blipFill>
          <a:blip r:embed="rId1"/>
          <a:stretch/>
        </p:blipFill>
        <p:spPr>
          <a:xfrm>
            <a:off x="7620120" y="50133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I pored istih mogućnosti i prava koji su zakonima zagarantovani, </a:t>
            </a:r>
            <a:r>
              <a:rPr b="1" lang="vi-VN" sz="3600" spc="-1" strike="noStrike">
                <a:solidFill>
                  <a:srgbClr val="000000"/>
                </a:solidFill>
                <a:latin typeface="Arial"/>
              </a:rPr>
              <a:t>Statistika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 pokazuje da postoje znatne disproporcije i disbalansi između muškaraca i žena kada se radi 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opama zaposl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visini zar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sedovanju imov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zicijama u zanimanju i obrazovan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privatnoj sfe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slicica vaga.jpg"/>
          <p:cNvPicPr/>
          <p:nvPr/>
        </p:nvPicPr>
        <p:blipFill>
          <a:blip r:embed="rId1"/>
          <a:stretch/>
        </p:blipFill>
        <p:spPr>
          <a:xfrm>
            <a:off x="6084720" y="342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3T00:39:16Z</dcterms:created>
  <dc:creator>Your User Name</dc:creator>
  <dc:description/>
  <dc:language>en-US</dc:language>
  <cp:lastModifiedBy>Your User Name</cp:lastModifiedBy>
  <dcterms:modified xsi:type="dcterms:W3CDTF">2012-06-27T23:10:34Z</dcterms:modified>
  <cp:revision>25</cp:revision>
  <dc:subject/>
  <dc:title>Rodna ravnopravnost ??? stereotipi</dc:title>
</cp:coreProperties>
</file>