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6.jpeg" ContentType="image/jpeg"/>
  <Override PartName="/ppt/media/image21.jpeg" ContentType="image/jpeg"/>
  <Override PartName="/ppt/media/image20.png" ContentType="image/png"/>
  <Override PartName="/ppt/media/image2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3.jpeg" ContentType="image/jpeg"/>
  <Override PartName="/ppt/media/image5.jpeg" ContentType="image/jpeg"/>
  <Override PartName="/ppt/media/image9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FBA60-1E7D-457B-A556-28FC54CE6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Dok se svako rađa kao jedinka određenog pola, rod nastaje tokom socijalizacij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'Pol''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– biološka kategorija. O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osi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s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 biološke razlike između žena i muškaraca. One su uglavnom trajne i univerzal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'Rod''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– društvena kategorija.O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osi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s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 društveno konstruisane uloge žena i muškaraca. Na koji način jedno društvo vidi ulogu žene i muškarca i šta od svakog od njih očekuje (društvena očekivanja vezana za rodne uloge) zavisi od niza faktora: kulturnih, političkih, ekonomskih, društvenih i religioznih. Na njih podjednako utiču i običaji, pravo, klasna i etnička pripadnost, kao i predrasude raširene u datom društvu. Stavovi i ponašanja prema rodu su naučeni i mogu se mijenjat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zlike u poimanju društvenih uloga muškaraca i žena mogu se uočiti u različitim kontekstima: Društven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Političk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brazovn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konomsk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ansrodnost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идентификовање са или непредстављање у складу са родом који је особи додељен приликом рођењ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0000"/>
                </a:solidFill>
                <a:latin typeface="Calibri"/>
              </a:rPr>
              <a:t>Rodne ulog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rakteristike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, aktivnosti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oge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dgovornosti koje se dodjeljuju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MiŽ na osnovu pretpostavljeni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krakteristika i atributa,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umesto sposobnosti i veština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zlikuju se među kulturama, društvima i istorijskim periodim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60FB0-B43E-486D-BFBD-38F3F1D14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Neformalne prepre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Ovo istraživanje je pokazalo da muškarci češće od žena imaju “važniji posao”, više doprinose rešavanju stambenog pitanja, češže obezbeđuju prihode, češće su autoriteti za decu i češće od žena donose najvažnije odlu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Žene češće preuzimaju inicijativu nakon svađe, češće održavaju rođačke i prijateljske odnose i češće se žrtvuju za dec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Emotivnu podršku pružaju že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zlike u poimanju društvenih uloga muškaraca i žena mogu se uočiti u različitim kontekstima: Društven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Političk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brazovn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konomsk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0000"/>
                </a:solidFill>
                <a:latin typeface="Calibri"/>
              </a:rPr>
              <a:t>Rodne ulog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rakteristike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, aktivnosti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oge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dgovornosti koje se dodjeljuju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MiŽ na osnovu pretpostavljeni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krakteristika i atributa,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umesto sposobnosti i veština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zlikuju se među kulturama, društvima i istorijskim periodim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C14A0-2B21-41DD-9D39-25F4ECE9C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naga ovih uverenja koja pogađa životne puteve muškaraca i žena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je velika, i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tkriva se u studijama izbora karijere i razvoja karijere.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zbor zanimanja je izuzetno važan jer struktuira znatan deo života, obezbeđuje izvor socijalnog identiteta i u značajnoj meri određuje zadovoljstvo životom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Čitave klase zanimanja mogu da se eliminišu na osnovu opažene sopstvene efikasnosti, bez obzira na dobre strane zanimanja. ostavljaju trag na uverenja žena </a:t>
            </a: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 i muškaraca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njihovim sposobnostima, sklonostima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 profesionalnoj efikasnosti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o, na primer, priroda stereotipa vezanih za muski pol karakterise pripadnike ovog pola kao agresivnije, bezosecajnije, neovisnije, objektivnije, dominantnije i aktivnije od pripadnika drugog pol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ene su pasivnije, pricljivije, neznije i osecajnije.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2DC93-EC10-4FB4-9E63-69C968C63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Zašto je rodna ravnopravnost bitna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?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dna ravnopravnost nije samo pitanj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socijalne pravd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ć j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ključna za postizanje društvenog razvoj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 djelotvoran i efikasan način, kao i eliminaciju siromaštv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Pravednost i jednakost (ljudska prava).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Kredibilitet i odgovorna vlas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Zasniva se na tome da nijedna politika ili program koji se ne baziraju na potrebama oba pola neće imati kredibilitet - izostaviće pola stanovništva.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fikasnost i održivost razvoj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rgument jasno ističe neoborivu činjenicu: od ravnopravnog učešća žena i muškaraca u svim aspektima razvoja i društva korist će imati država kao cjelina.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Kvalitet život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Pažnja posvećena rodnoj ravnopravnosti poboljšaće lični život žena i muškaraca. Zna se da žene imaju dobrobit od rodne ravnopravnosti, međutim, ovaj argument naglašava da dobrobit imaju i muškarci i porodice, znajući važnost i međuzavisnost socijalnih odnosa i ulog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F9CC9-90B2-4F73-B078-D124500C6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Feminizam – pokret koji se zalaže za oslobođenje žena u političkom i ekonomskom smislu,  oslobađanje od diskriminacije i tradicionalnih rodnih uloga (majke domaćice i supruge)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ministički pokret se ispočetka ispoljavao u dva oblika - kao pokret za ravnopravnost u plaćama, odnosno kao pokret kao davanje prava glasa ženama. Ovo potonje je s vremenom postignuto u većini zapadnih zemalja nakon prvog svjetskog rata, a kasnije i u ostatku svije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ko je politička, a i ekonomska ravnopravnost žena postignuta u institucionalnom smislu, tako je i feminizam postepeno evolucirao u novu formu tzv.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radikalnog feminizm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kome je cilj bio promijeniti tradicionalnu ulogu žene u društvu putem napada na brak i materinstvo kao tradicionalne institucije, odnosno na muškarce koji su po prirodi represivni prema ženama. Iako je relativno malen broj žena prihvatio taj ekstremni stav, danas se feminizam najčešće povezuje s nji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7017E-E273-41D9-96FE-44CD5D4D2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a uvodjenje rodna ravopravnost koriste se razni oblici mehanizama I instrumenata. Dakle, postoje pravni preduslovi za uspostvljanje rodne ravnopravnost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alibri"/>
              </a:rPr>
              <a:t>Savet za ravnopravnost polova Vlade Republike Srbije (2002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Uprava za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rodnu ravnopravnost pri Ministarstvu rada i socijalne politike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(2008)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alibri"/>
              </a:rPr>
              <a:t>Odbor za ravnopravnost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polova u Skupštini RS (2003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Lica za ravnopravnost polova u opštinam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Zamenica ombudsmana za rodnu ravnopravnos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Poverenik/Poverenica za zaštitu ravnopravnosti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18F17-D8D4-4921-AECB-6DF31E831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Statistik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kod nas pokazuje </a:t>
            </a:r>
            <a:r>
              <a:rPr b="0" lang="sr-Latn-CS" sz="1000" spc="-1" strike="noStrike">
                <a:solidFill>
                  <a:srgbClr val="000000"/>
                </a:solidFill>
                <a:latin typeface="Calibri"/>
              </a:rPr>
              <a:t>d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oje znatne disproporcije i disbalansi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(razlike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zme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 mu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raca I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žen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da se radi o sto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p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oslenesti, visini zarada, posedovanju imovine, po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ijama u zanimanju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brayovanj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- zaposlenost, nezaposlenost, aktivno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- zarad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- posedovanje imov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- obrazovanj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- pozicije u zanimanj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8C951-086E-46DD-AF83-E7D20B1F2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171E-BACE-48D1-8581-8D7DF14E5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46FF-85E4-4CD4-974F-A619A5BC7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6C70-26C5-44E7-9B51-5A91AA2FE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F9AA-FB71-4E67-A878-CE6AC479F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5691-7A61-4BCB-A72A-A7086A70D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DBE3-78C4-4637-9FD1-EAA6FE3F2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EB9F-FB70-4824-8BC5-20DD110F9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9E22-DD02-4436-BFB7-D3E04118B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BA24-58D8-4156-8DC2-A1EBAC4EF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A96A-7FB9-45BE-8902-6BC85DAF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F7A1-BEBD-44B2-B705-DD5D6364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FD37-94A5-4189-8782-0A33B320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C1046-69FE-42DC-9F2C-D77BA390A88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-jednakost.org.rs/kurs/kurs/download/evropskapoveljaorodnojravnopravnosti.pdf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1258920"/>
            <a:ext cx="8642160" cy="19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7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odn</a:t>
            </a:r>
            <a:r>
              <a:rPr b="1" lang="sr-Latn-CS" sz="7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 ravnopravnost</a:t>
            </a:r>
            <a:r>
              <a:rPr b="1" lang="sr-Latn-CS" sz="7200" spc="-1" strike="noStrike">
                <a:solidFill>
                  <a:srgbClr val="000000"/>
                </a:solidFill>
                <a:latin typeface="Calibri"/>
              </a:rPr>
              <a:t> i stereotipi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7280" y="4797360"/>
            <a:ext cx="64008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898989"/>
                </a:solidFill>
                <a:latin typeface="Calibri"/>
              </a:rPr>
              <a:t>P</a:t>
            </a: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rojekat:  Profesionalna orijentacija pri prelasku u srednju </a:t>
            </a:r>
            <a:r>
              <a:rPr b="0" lang="sr-Latn-CS" sz="1800" spc="-1" strike="noStrike">
                <a:solidFill>
                  <a:srgbClr val="898989"/>
                </a:solidFill>
                <a:latin typeface="Calibri"/>
              </a:rPr>
              <a:t>škol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"/>
          <p:cNvSpPr/>
          <p:nvPr/>
        </p:nvSpPr>
        <p:spPr>
          <a:xfrm>
            <a:off x="1476360" y="378936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ija Ivkovi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ljudi u redu.jpg"/>
          <p:cNvPicPr/>
          <p:nvPr/>
        </p:nvPicPr>
        <p:blipFill>
          <a:blip r:embed="rId1"/>
          <a:stretch/>
        </p:blipFill>
        <p:spPr>
          <a:xfrm>
            <a:off x="6659640" y="4657680"/>
            <a:ext cx="2160360" cy="2200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ljudi u redu.jpg"/>
          <p:cNvPicPr/>
          <p:nvPr/>
        </p:nvPicPr>
        <p:blipFill>
          <a:blip r:embed="rId2"/>
          <a:stretch/>
        </p:blipFill>
        <p:spPr>
          <a:xfrm>
            <a:off x="4572000" y="4657680"/>
            <a:ext cx="2085840" cy="2200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ljudi u redu.jpg"/>
          <p:cNvPicPr/>
          <p:nvPr/>
        </p:nvPicPr>
        <p:blipFill>
          <a:blip r:embed="rId3"/>
          <a:stretch/>
        </p:blipFill>
        <p:spPr>
          <a:xfrm>
            <a:off x="2484360" y="4657680"/>
            <a:ext cx="2086200" cy="2200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ljudi u redu.jpg"/>
          <p:cNvPicPr/>
          <p:nvPr/>
        </p:nvPicPr>
        <p:blipFill>
          <a:blip r:embed="rId4"/>
          <a:stretch/>
        </p:blipFill>
        <p:spPr>
          <a:xfrm>
            <a:off x="539640" y="4657680"/>
            <a:ext cx="208620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U škole se upisuju jednaki broj devojčica i deča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Devojčice u proseku imaju bolje rezult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Gotovo isti broj devojaka i momaka upisuje studi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AL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 Žene čine manje od 40% radne sn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 Žene imaju u proseku manje za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 Razlike počinju prilikom izbora škole i zanima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 Žene zauzimaju znatno manje mesta na ključnim pozicij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 Velike su rodne razlike kod korišćenja vremena (slobodno vreme, kućne aktivnosti, neplaćeni poslov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3" descr="slicica x oks.bmp"/>
          <p:cNvPicPr/>
          <p:nvPr/>
        </p:nvPicPr>
        <p:blipFill>
          <a:blip r:embed="rId1"/>
          <a:stretch/>
        </p:blipFill>
        <p:spPr>
          <a:xfrm>
            <a:off x="7020000" y="2421000"/>
            <a:ext cx="18446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Content Placeholder 5" descr="aktivnost, po polu, graf.jpg"/>
          <p:cNvPicPr/>
          <p:nvPr/>
        </p:nvPicPr>
        <p:blipFill>
          <a:blip r:embed="rId1"/>
          <a:stretch/>
        </p:blipFill>
        <p:spPr>
          <a:xfrm>
            <a:off x="138240" y="765000"/>
            <a:ext cx="8754840" cy="528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Prosečne z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rad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Object 3"/>
          <p:cNvGraphicFramePr/>
          <p:nvPr/>
        </p:nvGraphicFramePr>
        <p:xfrm>
          <a:off x="539640" y="1916280"/>
          <a:ext cx="4319640" cy="424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916280"/>
                    <a:ext cx="4319640" cy="42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TextBox 4"/>
          <p:cNvSpPr/>
          <p:nvPr/>
        </p:nvSpPr>
        <p:spPr>
          <a:xfrm>
            <a:off x="5580000" y="2349360"/>
            <a:ext cx="273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a svaki dolar koji zaradi muškarac, žene zara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u Meksiku: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u Nigeriji: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u Šri Lanki: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u Bangladešu: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200160"/>
            <a:ext cx="88200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Stanovnišvo staro 15 i više godina prema školsokoj spremi i pol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24000" y="1206360"/>
          <a:ext cx="8370720" cy="4886640"/>
        </p:xfrm>
        <a:graphic>
          <a:graphicData uri="http://schemas.openxmlformats.org/drawingml/2006/table">
            <a:tbl>
              <a:tblPr/>
              <a:tblGrid>
                <a:gridCol w="4630680"/>
                <a:gridCol w="1245960"/>
                <a:gridCol w="1247760"/>
                <a:gridCol w="1246320"/>
              </a:tblGrid>
              <a:tr h="61128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0/oktob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Ukup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Muškar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Že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09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z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3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0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5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1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epotpuna osnovna ško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1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8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14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1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snovna ško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2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2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2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10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rednja ško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48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55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42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09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iša ško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5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5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5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1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akultet, akademija ili visoka ško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8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9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8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</a:tr>
            </a:tbl>
          </a:graphicData>
        </a:graphic>
      </p:graphicFrame>
      <p:sp>
        <p:nvSpPr>
          <p:cNvPr id="92" name="TextBox 2"/>
          <p:cNvSpPr/>
          <p:nvPr/>
        </p:nvSpPr>
        <p:spPr>
          <a:xfrm>
            <a:off x="61920" y="6356520"/>
            <a:ext cx="807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zvor: Republički zavod za Statistiku, Beog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" descr="ucenici srednja skola po polu.jpg"/>
          <p:cNvPicPr/>
          <p:nvPr/>
        </p:nvPicPr>
        <p:blipFill>
          <a:blip r:embed="rId1"/>
          <a:stretch/>
        </p:blipFill>
        <p:spPr>
          <a:xfrm>
            <a:off x="855720" y="0"/>
            <a:ext cx="7432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4" descr="diplomirani stuenti, po polu, graf.jpg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79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1547640" y="1197000"/>
            <a:ext cx="5588280" cy="361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1042920" y="4869000"/>
            <a:ext cx="6932520" cy="132084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250920" y="6453360"/>
            <a:ext cx="835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zvor: Republički zavod za Statistiku, Beog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8769240" y="6477120"/>
            <a:ext cx="311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69A40-0F3F-41A1-813D-B0520CA71F3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61920" y="6356520"/>
            <a:ext cx="807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zvor: Republički zavod za Statistiku, Beog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152280" y="4343400"/>
            <a:ext cx="8382240" cy="45720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zaposlena lica prema znimanju i polu, graf.jpg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8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Content Placeholder 3" descr="donosenje odluka, prema nivou odlucivanja.jpg"/>
          <p:cNvPicPr/>
          <p:nvPr/>
        </p:nvPicPr>
        <p:blipFill>
          <a:blip r:embed="rId1"/>
          <a:stretch/>
        </p:blipFill>
        <p:spPr>
          <a:xfrm>
            <a:off x="395280" y="476280"/>
            <a:ext cx="8748720" cy="56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inistri vlade Republike Srbije, struktura i broj prema polu 2002 - 2011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5" name="Object 3"/>
          <p:cNvGraphicFramePr/>
          <p:nvPr/>
        </p:nvGraphicFramePr>
        <p:xfrm>
          <a:off x="611280" y="1484280"/>
          <a:ext cx="8053200" cy="489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84280"/>
                    <a:ext cx="805320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Rectangle 3"/>
          <p:cNvSpPr/>
          <p:nvPr/>
        </p:nvSpPr>
        <p:spPr>
          <a:xfrm>
            <a:off x="1403280" y="6488280"/>
            <a:ext cx="57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zvor: Republički zavod za Statistiku, Beog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57200" y="692280"/>
          <a:ext cx="8229600" cy="1439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4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d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68360" y="2349360"/>
          <a:ext cx="7993080" cy="701640"/>
        </p:xfrm>
        <a:graphic>
          <a:graphicData uri="http://schemas.openxmlformats.org/drawingml/2006/table">
            <a:tbl>
              <a:tblPr/>
              <a:tblGrid>
                <a:gridCol w="3995640"/>
                <a:gridCol w="39974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logij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uštv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457200" y="3127320"/>
          <a:ext cx="7993080" cy="701640"/>
        </p:xfrm>
        <a:graphic>
          <a:graphicData uri="http://schemas.openxmlformats.org/drawingml/2006/table">
            <a:tbl>
              <a:tblPr/>
              <a:tblGrid>
                <a:gridCol w="3995640"/>
                <a:gridCol w="39974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jnos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ltura/običaj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457200" y="3862440"/>
          <a:ext cx="7993080" cy="701640"/>
        </p:xfrm>
        <a:graphic>
          <a:graphicData uri="http://schemas.openxmlformats.org/drawingml/2006/table">
            <a:tbl>
              <a:tblPr/>
              <a:tblGrid>
                <a:gridCol w="3995640"/>
                <a:gridCol w="39974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verzalnos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enljivos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" name="Picture 9" descr="likovi muski zenski i sa pola suknje.jpg"/>
          <p:cNvPicPr/>
          <p:nvPr/>
        </p:nvPicPr>
        <p:blipFill>
          <a:blip r:embed="rId1"/>
          <a:stretch/>
        </p:blipFill>
        <p:spPr>
          <a:xfrm>
            <a:off x="3203640" y="4724280"/>
            <a:ext cx="28573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1f497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0C624-8056-49CB-9867-2D5911DBC84A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301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500" spc="-1" strike="noStrike">
                <a:solidFill>
                  <a:srgbClr val="000000"/>
                </a:solidFill>
                <a:latin typeface="Arial"/>
              </a:rPr>
              <a:t>Porodica </a:t>
            </a:r>
            <a:r>
              <a:rPr b="1" lang="sr-Latn-CS" sz="3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5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sr-Latn-CS" sz="3500" spc="-1" strike="noStrike">
                <a:solidFill>
                  <a:srgbClr val="000000"/>
                </a:solidFill>
                <a:latin typeface="Arial"/>
              </a:rPr>
              <a:t>Vlasništvo</a:t>
            </a:r>
            <a:br>
              <a:rPr sz="2600"/>
            </a:br>
            <a:r>
              <a:rPr b="1" lang="sr-Latn-CS" sz="900" spc="-1" strike="noStrike">
                <a:solidFill>
                  <a:srgbClr val="000000"/>
                </a:solidFill>
                <a:latin typeface="Arial"/>
              </a:rPr>
              <a:t>Izvor </a:t>
            </a:r>
            <a:r>
              <a:rPr b="1" lang="sr-Latn-CS" sz="9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sr-Latn-CS" sz="900" spc="-1" strike="noStrike">
                <a:solidFill>
                  <a:srgbClr val="000000"/>
                </a:solidFill>
                <a:latin typeface="Arial"/>
              </a:rPr>
              <a:t>Altera MB, AŽIN, Rodni barometar  Društveni položaj žena i muškaraca , 2006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5029200"/>
            <a:ext cx="38116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60000"/>
              </a:lnSpc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" spc="-1" strike="noStrike">
                <a:solidFill>
                  <a:srgbClr val="000000"/>
                </a:solidFill>
                <a:latin typeface="Calibri"/>
              </a:rPr>
              <a:t>Izvor: Rodni barometar, 2006 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7794720" cy="39848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6"/>
          <p:cNvSpPr/>
          <p:nvPr/>
        </p:nvSpPr>
        <p:spPr>
          <a:xfrm>
            <a:off x="1692360" y="6308640"/>
            <a:ext cx="53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zvor: Republički zavod za Statistiku, Beogr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Podela odgovornosti u privatnoj sferi </a:t>
            </a:r>
            <a:br>
              <a:rPr sz="3200"/>
            </a:b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- porodica i slobodno vreme 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Visoko učešće proširenih porodica ( i to patricentričnih domaćinstva), pad nuklearnih formi porodic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atrilokalni obrazac formiranja domaćin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orast jednočlanih, dvočlanih porodic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Zanemarljivo nizak udeo alternativnih formi suživo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Žene znatno više vremena ulažu u neplaćen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(kućni) rad, brigu oko dece 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tarih i bolesnih lic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3" descr="porodica grafika sarena.jpg"/>
          <p:cNvPicPr/>
          <p:nvPr/>
        </p:nvPicPr>
        <p:blipFill>
          <a:blip r:embed="rId1"/>
          <a:stretch/>
        </p:blipFill>
        <p:spPr>
          <a:xfrm>
            <a:off x="6516720" y="4149720"/>
            <a:ext cx="23763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aspodela kućnih poslov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33520" y="1557360"/>
          <a:ext cx="8229600" cy="4726080"/>
        </p:xfrm>
        <a:graphic>
          <a:graphicData uri="http://schemas.openxmlformats.org/drawingml/2006/table">
            <a:tbl>
              <a:tblPr/>
              <a:tblGrid>
                <a:gridCol w="2463840"/>
                <a:gridCol w="1222200"/>
                <a:gridCol w="1695600"/>
                <a:gridCol w="1536480"/>
                <a:gridCol w="1311480"/>
              </a:tblGrid>
              <a:tr h="8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rsta kućnog pos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9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žen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9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muškarci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9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zajedn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stal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uv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8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8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7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išćen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75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9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gl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8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5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ga male de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7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20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8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iga o školskim obaveza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7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9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1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</a:tbl>
          </a:graphicData>
        </a:graphic>
      </p:graphicFrame>
      <p:sp>
        <p:nvSpPr>
          <p:cNvPr id="118" name="Rectangle 4"/>
          <p:cNvSpPr/>
          <p:nvPr/>
        </p:nvSpPr>
        <p:spPr>
          <a:xfrm>
            <a:off x="324000" y="6488280"/>
            <a:ext cx="88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600" spc="-1" strike="noStrike">
                <a:solidFill>
                  <a:srgbClr val="000000"/>
                </a:solidFill>
                <a:latin typeface="Arial"/>
              </a:rPr>
              <a:t>Извор: Трансформацијске стратегије друштвених група у Србији, ИСИФ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Content Placeholder 3" descr="vreme u neplacenim poslovima, graf.jpg"/>
          <p:cNvPicPr/>
          <p:nvPr/>
        </p:nvPicPr>
        <p:blipFill>
          <a:blip r:embed="rId1"/>
          <a:stretch/>
        </p:blipFill>
        <p:spPr>
          <a:xfrm>
            <a:off x="457200" y="836640"/>
            <a:ext cx="822960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Rodno senzitivni jezi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Jezik je odraz zajednice; prošlosti, sadašnjosti i promena koje se u njoj dešavaj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Rodno osetljiva upotreba jezika pomaže spoznaji da je ravnopravnost u društvu potrebna i omogućava veću vidljivost že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Kako su se menjali odnosi u društvu menjalo se i značenje pojedinih reči (titula), npr: ministark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Rodni stereotipi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0" y="1125360"/>
            <a:ext cx="9144000" cy="460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Šta su to stereotipi?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Sl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ike u našim glavama“ koje pružaju okvire za objašnjenje događaja o kojima smo nedovoljno, djelimično obaviješten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Predrasu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egativn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tavov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najčešće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logički nezasnovan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i neutemeljen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na ličnom iskustvu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Rodni stereotipi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avljaju se uz odredjenu polnu grupu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podrazumevaju citav niz karakteristika, bilo fizicki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ilo psihickih, koje tu grupu opisuju i odredjuju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6" descr="slicica za slajd.png"/>
          <p:cNvPicPr/>
          <p:nvPr/>
        </p:nvPicPr>
        <p:blipFill>
          <a:blip r:embed="rId1"/>
          <a:stretch/>
        </p:blipFill>
        <p:spPr>
          <a:xfrm>
            <a:off x="6012000" y="3790800"/>
            <a:ext cx="290484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Uticaj stereotipa na izbor zaniman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9280" y="1557000"/>
            <a:ext cx="40402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Snaga stereotipa je izuzetno velika i utiče na donošenje mnogih bitnih odluk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zbor zanimanja je izuzetno važan jer struktuira znatan deo života, obezbeđuje izvor socijalnog identiteta i u značajnoj meri određuje zadovoljstvo životom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Često 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ave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grup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zanimanja mogu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biti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limini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san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na osnovu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stereotip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Stereotipi se često provlače neopaženo (kroz jezik, svakodnevne izreke, reklame, slik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Content Placeholder 6" descr="slicica doktor i medicinska sestra.jpg"/>
          <p:cNvPicPr/>
          <p:nvPr/>
        </p:nvPicPr>
        <p:blipFill>
          <a:blip r:embed="rId1"/>
          <a:stretch/>
        </p:blipFill>
        <p:spPr>
          <a:xfrm>
            <a:off x="5076720" y="1773360"/>
            <a:ext cx="1800360" cy="2543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ona gleda muza i sina kroz prozor.jpg"/>
          <p:cNvPicPr/>
          <p:nvPr/>
        </p:nvPicPr>
        <p:blipFill>
          <a:blip r:embed="rId2"/>
          <a:stretch/>
        </p:blipFill>
        <p:spPr>
          <a:xfrm>
            <a:off x="6659640" y="3716280"/>
            <a:ext cx="20764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37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800" spc="-1" strike="noStrike">
                <a:solidFill>
                  <a:srgbClr val="000000"/>
                </a:solidFill>
                <a:latin typeface="Calibri"/>
              </a:rPr>
              <a:t>Hvala!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0755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7f7f7f"/>
                </a:solidFill>
                <a:latin typeface="Calibri"/>
              </a:rPr>
              <a:t>Pitanja i komentar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4797000"/>
            <a:ext cx="800244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7f7f7f"/>
                </a:solidFill>
                <a:latin typeface="Calibri"/>
              </a:rPr>
              <a:t>Marija Ivkovi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m</a:t>
            </a:r>
            <a:r>
              <a:rPr b="0" lang="sr-Latn-CS" sz="2400" spc="-1" strike="noStrike">
                <a:solidFill>
                  <a:srgbClr val="7f7f7f"/>
                </a:solidFill>
                <a:latin typeface="Calibri"/>
              </a:rPr>
              <a:t>arija.ivkovic22</a:t>
            </a: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@gmail.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1547640" y="2637000"/>
            <a:ext cx="60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7f7f7f"/>
                </a:solidFill>
                <a:latin typeface="Arial"/>
              </a:rPr>
              <a:t>Sledi radionica: rodni stereoti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Rodne ulog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39640" y="148428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Karakterist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ktivnosti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ulog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odgovornosti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koje se dodjeljuju muškarcima i ženama na osnovu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etpostavljenih karakteristika i atribut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a pre svega </a:t>
            </a: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pola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mesto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posobnosti i veštin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slicica znakovi za pol.jpg"/>
          <p:cNvPicPr/>
          <p:nvPr/>
        </p:nvPicPr>
        <p:blipFill>
          <a:blip r:embed="rId1"/>
          <a:stretch/>
        </p:blipFill>
        <p:spPr>
          <a:xfrm>
            <a:off x="6781680" y="4915080"/>
            <a:ext cx="236232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Rodna ravnopravnost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23640" y="16002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etpostavka da u jednom društvu, zajednici ili organizaciji postoje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jednake mogućnosti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za žene, muškarce i osobe drugačijih rodnih identiteta da doprinesu kulturnom, političkom, ekonomskom i socijalnom napretku, kao i da imaju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jednake mogućnosti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da uživaju sve koristi i dobrobiti od napretka jedne zajednic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2195640" y="637236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vropska povelja o rodnoj ravnopravnosti na lokalnom nivou (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lin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ljudi u redu.jpg"/>
          <p:cNvPicPr/>
          <p:nvPr/>
        </p:nvPicPr>
        <p:blipFill>
          <a:blip r:embed="rId1"/>
          <a:stretch/>
        </p:blipFill>
        <p:spPr>
          <a:xfrm>
            <a:off x="5003640" y="5229360"/>
            <a:ext cx="2086200" cy="22003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Bitn</a:t>
            </a:r>
            <a:r>
              <a:rPr b="1" lang="sr-Latn-CS" sz="5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 je za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23640" y="1599840"/>
            <a:ext cx="8569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odsticanje društvenog razvoj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Eliminaciju siromaštv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Kredibilitet i odgovornost vlast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Efikasnost i održivost razvoj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Kvalitet života pojedinaca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ljudi u redu.jpg"/>
          <p:cNvPicPr/>
          <p:nvPr/>
        </p:nvPicPr>
        <p:blipFill>
          <a:blip r:embed="rId2"/>
          <a:stretch/>
        </p:blipFill>
        <p:spPr>
          <a:xfrm>
            <a:off x="7058160" y="5229360"/>
            <a:ext cx="20858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Kada i kako je sve počelo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Feminizam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e naziv za skup ideologija i političkih pokreta kojima je cilj poboljšanje položaja žene u društvu, odnosno izjednačavanje prava žena s pravima muškaraca.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ydvajaju se tri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period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Prvi talas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- krajem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9.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vek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 označavao borbu žena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za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Calibri"/>
              </a:rPr>
              <a:t>pravo glas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Te feministkinje su bile poznate kao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sifražetkinj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Drugi talas -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60-ih i 70-ih godina 20. vek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Predstavlj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klasične postavke i fokuse feminizma kao što su organizacija masovnog pokreta, rodna ravnopravnost, antiimperijalizam, promenu zakonodavstva, edukacija žena, problematika muškog nasilja i s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Treći talas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– o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80-ih i traje do danas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kušava da prenebregne rodne razlike 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lizak je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nekim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rugim teorijama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ao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što je kvir teorij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we can do it!.jpg"/>
          <p:cNvPicPr/>
          <p:nvPr/>
        </p:nvPicPr>
        <p:blipFill>
          <a:blip r:embed="rId1"/>
          <a:stretch/>
        </p:blipFill>
        <p:spPr>
          <a:xfrm>
            <a:off x="6942240" y="4003560"/>
            <a:ext cx="220176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7" descr="ljudi u redu.jpg"/>
          <p:cNvPicPr/>
          <p:nvPr/>
        </p:nvPicPr>
        <p:blipFill>
          <a:blip r:embed="rId1"/>
          <a:stretch/>
        </p:blipFill>
        <p:spPr>
          <a:xfrm>
            <a:off x="468360" y="5229360"/>
            <a:ext cx="2085840" cy="22003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Gender mainstreaming</a:t>
            </a:r>
            <a:br>
              <a:rPr sz="4400"/>
            </a:b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(ili kako uvesti rodnu ravnopravnos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324000" y="1773360"/>
            <a:ext cx="7993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odna ravnopravnost je cilj, a gender m. je nač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 procenjivanja posledica svake planirane akcije, uklju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ju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zakonodavstvo, politike i programe, za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 i mu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rce, u svim oblastima i na svim nivoim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Predstavlja 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ak dalje u odnosu na formalnu implementaciju zakona o rodnoj ravnopravnosti i zahteva praktična primena principa koji su zakonski već regulisan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ljudi u redu.jpg"/>
          <p:cNvPicPr/>
          <p:nvPr/>
        </p:nvPicPr>
        <p:blipFill>
          <a:blip r:embed="rId2"/>
          <a:stretch/>
        </p:blipFill>
        <p:spPr>
          <a:xfrm>
            <a:off x="6732720" y="5229360"/>
            <a:ext cx="2085840" cy="2200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ljudi u redu.jpg"/>
          <p:cNvPicPr/>
          <p:nvPr/>
        </p:nvPicPr>
        <p:blipFill>
          <a:blip r:embed="rId3"/>
          <a:stretch/>
        </p:blipFill>
        <p:spPr>
          <a:xfrm>
            <a:off x="4643280" y="5229360"/>
            <a:ext cx="2086200" cy="22003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ljudi u redu.jpg"/>
          <p:cNvPicPr/>
          <p:nvPr/>
        </p:nvPicPr>
        <p:blipFill>
          <a:blip r:embed="rId4"/>
          <a:stretch/>
        </p:blipFill>
        <p:spPr>
          <a:xfrm>
            <a:off x="2556000" y="5229360"/>
            <a:ext cx="20858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Zakonska regulativ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8000" y="1125360"/>
            <a:ext cx="821844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sr-Latn-CS" sz="1600" spc="-1" strike="noStrike">
                <a:solidFill>
                  <a:srgbClr val="000000"/>
                </a:solidFill>
                <a:latin typeface="Calibri"/>
              </a:rPr>
              <a:t>USTAV I ZAKON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Calibri"/>
              </a:rPr>
              <a:t>Ustav republike Srbije garantuje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jednakost muškaraca i žena i razvijanje politike jednakih mogućnosti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alibri"/>
              </a:rPr>
              <a:t>USTAV REPUBLIKE SRBIJ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alibri"/>
              </a:rPr>
              <a:t>Ravnopravnost polova (čl. 15) </a:t>
            </a:r>
            <a:r>
              <a:rPr b="0" i="1" sz="1400" spc="-1" strike="noStrike">
                <a:solidFill>
                  <a:srgbClr val="000000"/>
                </a:solidFill>
                <a:latin typeface="Calibri"/>
              </a:rPr>
              <a:t>Država jemči ravnopravnost žena i muškaraca i razvija politiku jednakih mogućnosti</a:t>
            </a: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alibri"/>
              </a:rPr>
              <a:t>Sastav Narodne skupštine  (čl.100) </a:t>
            </a:r>
            <a:r>
              <a:rPr b="0" i="1" sz="1400" spc="-1" strike="noStrike">
                <a:solidFill>
                  <a:srgbClr val="000000"/>
                </a:solidFill>
                <a:latin typeface="Calibri"/>
              </a:rPr>
              <a:t>Narodnu skupštinu </a:t>
            </a:r>
            <a:r>
              <a:rPr b="0" i="1" lang="sl-SI" sz="14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0" i="1" sz="1400" spc="-1" strike="noStrike">
                <a:solidFill>
                  <a:srgbClr val="000000"/>
                </a:solidFill>
                <a:latin typeface="Calibri"/>
              </a:rPr>
              <a:t>ini 250 narodnih poslanika, koji se biraju na neposrednim izborima, tajnim glasanjem, u skladu sa zakonom. U Narodnoj skupštini obezbe</a:t>
            </a:r>
            <a:r>
              <a:rPr b="0" i="1" lang="sl-SI" sz="1400" spc="-1" strike="noStrike">
                <a:solidFill>
                  <a:srgbClr val="000000"/>
                </a:solidFill>
                <a:latin typeface="Calibri"/>
              </a:rPr>
              <a:t>đ</a:t>
            </a:r>
            <a:r>
              <a:rPr b="0" i="1" sz="1400" spc="-1" strike="noStrike">
                <a:solidFill>
                  <a:srgbClr val="000000"/>
                </a:solidFill>
                <a:latin typeface="Calibri"/>
              </a:rPr>
              <a:t>uju se ravnopravnost i zastupljenost polova i predstavnika nacionalnih manjina, u skladu sa zakonom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400" spc="-1" strike="noStrike">
                <a:solidFill>
                  <a:srgbClr val="000000"/>
                </a:solidFill>
                <a:latin typeface="Calibri"/>
              </a:rPr>
              <a:t>Zakoni</a:t>
            </a: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: Zakon o radu</a:t>
            </a: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Izborni zakon</a:t>
            </a: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, Krivični zakon, Porodični zakon, Zakon o ravnopravnosti polova, Strategija za unapređenje položaja žena i rodnu ravnopravnost, druge strategije takođe se dotiču ove teme (Strategija za poboljšanje položaja mladih, St. za podsticanje rađanja.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sr-Latn-CS" sz="1600" spc="-1" strike="noStrike">
                <a:solidFill>
                  <a:srgbClr val="000000"/>
                </a:solidFill>
                <a:latin typeface="Calibri"/>
              </a:rPr>
              <a:t>MEHANIZMI – RADNA, IZVRŠNA I EKSPERTSKA TEL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Odbor za ravnopravnost polova Narodne skupštine Republike Srbije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Savet za ravnopravnost polova Vlade RS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Zaštitnik prava građana (i zamenica za pitanja rodne ravnopravnosti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Uprava (Sekretar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za rodnu ravnopravnost u okviru  Ministarstva rada i socijalne politik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Institucionalizovani mehanizmi AP Vojvod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Lokalne komisije za rodnu ravnopravno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Calibri"/>
              </a:rPr>
              <a:t>GIZ </a:t>
            </a: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–opredeljenje da na svim projektima bude uključena rodna dimenzij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pecat.jpg"/>
          <p:cNvPicPr/>
          <p:nvPr/>
        </p:nvPicPr>
        <p:blipFill>
          <a:blip r:embed="rId1"/>
          <a:stretch/>
        </p:blipFill>
        <p:spPr>
          <a:xfrm>
            <a:off x="7620120" y="501336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I pored istih mogućnosti i prava koji su zakonima zagarantovani, </a:t>
            </a:r>
            <a:r>
              <a:rPr b="1" lang="vi-VN" sz="3600" spc="-1" strike="noStrike">
                <a:solidFill>
                  <a:srgbClr val="000000"/>
                </a:solidFill>
                <a:latin typeface="Arial"/>
              </a:rPr>
              <a:t>Statistika</a:t>
            </a:r>
            <a:r>
              <a:rPr b="0" lang="vi-VN" sz="3600" spc="-1" strike="noStrike">
                <a:solidFill>
                  <a:srgbClr val="000000"/>
                </a:solidFill>
                <a:latin typeface="Arial"/>
              </a:rPr>
              <a:t> pokazuje da postoje znatne disproporcije i disbalansi između muškaraca i žena kada se radi o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00"/>
                </a:solidFill>
                <a:latin typeface="Arial"/>
              </a:rPr>
              <a:t>stopama zaposlen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vi-VN" sz="3600" spc="-1" strike="noStrike">
                <a:solidFill>
                  <a:srgbClr val="000000"/>
                </a:solidFill>
                <a:latin typeface="Arial"/>
              </a:rPr>
              <a:t>sti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00"/>
                </a:solidFill>
                <a:latin typeface="Arial"/>
              </a:rPr>
              <a:t>visini zara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00"/>
                </a:solidFill>
                <a:latin typeface="Arial"/>
              </a:rPr>
              <a:t>posedovanju imovi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00"/>
                </a:solidFill>
                <a:latin typeface="Arial"/>
              </a:rPr>
              <a:t>pozicijama u zanimanju i obrazovanj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privatnoj sfer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3" descr="slicica vaga.jpg"/>
          <p:cNvPicPr/>
          <p:nvPr/>
        </p:nvPicPr>
        <p:blipFill>
          <a:blip r:embed="rId1"/>
          <a:stretch/>
        </p:blipFill>
        <p:spPr>
          <a:xfrm>
            <a:off x="6084720" y="34290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3T00:39:16Z</dcterms:created>
  <dc:creator>Your User Name</dc:creator>
  <dc:description/>
  <dc:language>en-US</dc:language>
  <cp:lastModifiedBy>Your User Name</cp:lastModifiedBy>
  <dcterms:modified xsi:type="dcterms:W3CDTF">2012-06-27T23:10:34Z</dcterms:modified>
  <cp:revision>25</cp:revision>
  <dc:subject/>
  <dc:title>Rodna ravnopravnost ??? stereotipi</dc:title>
</cp:coreProperties>
</file>